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BD04-7940-4439-B216-A13E2C403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CECE-4137-414B-BF91-E723453F6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E978-0BE7-4CDB-B1F8-76531E4C4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6FF7-356B-4E03-B123-3729C51A4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BEA5-F652-4F7B-BA90-97B9F7A5A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B81D-1BC5-48A2-B87B-E6AF9A084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007D-D4E5-4944-B987-613FE863E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E0C3-07BD-4597-8F77-8D4BC6DAE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1C34-88AB-4742-AAF3-CFB747661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5FF6-5CBA-4F14-90EA-425DA4E7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FA6A-1036-4D47-A9B6-F8B91133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6BEA-878B-48DB-BA9A-6B885EFA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6337C-F487-4070-AAC8-4B84A2D4E210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quran+namaz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8800" spc="-1" strike="noStrike">
                <a:solidFill>
                  <a:srgbClr val="ffffff"/>
                </a:solidFill>
                <a:latin typeface="Calibri"/>
              </a:rPr>
              <a:t>تعقیب نمازمغرب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quran+namaz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5480" y="-360"/>
            <a:ext cx="8643960" cy="642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fa-IR" sz="4400" spc="-1" strike="noStrike">
                <a:solidFill>
                  <a:srgbClr val="ffc000"/>
                </a:solidFill>
                <a:latin typeface="Calibri"/>
              </a:rPr>
              <a:t> بِسم الله الرَحمن الرَحیم </a:t>
            </a:r>
            <a:br>
              <a:rPr sz="4400"/>
            </a:br>
            <a:br>
              <a:rPr sz="4400"/>
            </a:br>
            <a:r>
              <a:rPr b="1" lang="ar-SA" sz="4400" spc="-1" strike="noStrike">
                <a:solidFill>
                  <a:srgbClr val="ffffff"/>
                </a:solidFill>
                <a:latin typeface="Calibri"/>
              </a:rPr>
              <a:t>اَللّهُمَّ اِنّي</a:t>
            </a:r>
            <a:br>
              <a:rPr sz="4400"/>
            </a:br>
            <a:r>
              <a:rPr b="1" lang="ar-SA" sz="4400" spc="-1" strike="noStrike">
                <a:solidFill>
                  <a:srgbClr val="ffffff"/>
                </a:solidFill>
                <a:latin typeface="Calibri"/>
              </a:rPr>
              <a:t> اَسئَلُُکَ موجِباتِ رَحمَتِک</a:t>
            </a:r>
            <a:br>
              <a:rPr sz="4400"/>
            </a:br>
            <a:r>
              <a:rPr b="1" lang="ar-SA" sz="4400" spc="-1" strike="noStrike">
                <a:solidFill>
                  <a:srgbClr val="ffffff"/>
                </a:solidFill>
                <a:latin typeface="Calibri"/>
              </a:rPr>
              <a:t> وَ عَزآئِمَ مَغفِرَتِک وَالنَجاةَ مِن النّارِ وَ مِن کلِّ بَلیَّة وَالفَوزَ بِالجَنَّةِ وَالرَّضوانَ في دارِالسَّلامِ وَ جِوارِنَبیِّکَ مُحَمَّدعَلَیهِ وَآلِهِ السَّلام اَللّهُمَّ مَا </a:t>
            </a:r>
            <a:br>
              <a:rPr sz="4400"/>
            </a:br>
            <a:r>
              <a:rPr b="1" lang="ar-SA" sz="4400" spc="-1" strike="noStrike">
                <a:solidFill>
                  <a:srgbClr val="ffffff"/>
                </a:solidFill>
                <a:latin typeface="Calibri"/>
              </a:rPr>
              <a:t>بِنا مِن نِعمَة فَمِنک لا اِلهَ اِلاّ اَنت </a:t>
            </a:r>
            <a:br>
              <a:rPr sz="4400"/>
            </a:br>
            <a:r>
              <a:rPr b="1" lang="ar-SA" sz="4400" spc="-1" strike="noStrike">
                <a:solidFill>
                  <a:srgbClr val="ffffff"/>
                </a:solidFill>
                <a:latin typeface="Calibri"/>
              </a:rPr>
              <a:t>اَستَغفِرُکَ</a:t>
            </a:r>
            <a:r>
              <a:rPr b="1" lang="fa-IR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ffffff"/>
                </a:solidFill>
                <a:latin typeface="Calibri"/>
              </a:rPr>
              <a:t> وَ اتوبُ اِلَیک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 </a:t>
            </a:r>
            <a:br>
              <a:rPr sz="4400"/>
            </a:br>
            <a:r>
              <a:rPr b="1" lang="ar-SA" sz="44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9T08:55:53Z</dcterms:created>
  <dc:creator>Hadi Najar</dc:creator>
  <dc:description/>
  <dc:language>en-US</dc:language>
  <cp:lastModifiedBy>Seyed Mohammad Kazem Motallebi</cp:lastModifiedBy>
  <dcterms:modified xsi:type="dcterms:W3CDTF">2008-02-07T05:42:13Z</dcterms:modified>
  <cp:revision>10</cp:revision>
  <dc:subject/>
  <dc:title>Namaz Maghrib</dc:title>
</cp:coreProperties>
</file>