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B32-CEA8-4E4F-8EC3-ACC7967B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BDE-FD91-4BDF-9F9C-341EA5DE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F31-38F6-40AF-BF66-547C96C3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12B-E0E3-477A-A0AD-84C7E4A7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DF8-1F66-4417-81EF-000DC1B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9DD-5416-4C6F-BD8D-6C2AE280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AE8-2CED-469C-95F6-77F4AD18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8C6-6B5D-48C3-B330-1D021601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08-D284-4177-AC47-62A01EA9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803-40A9-44F1-B8F3-DD29B30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274-AA61-4323-A92E-21665BB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CEC-092E-4C9A-8E1C-5FBC047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46FB-E48C-4B85-A515-442802E72CFE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ffffff"/>
                </a:solidFill>
                <a:latin typeface="Calibri"/>
              </a:rPr>
              <a:t>تعقیب نمازمغر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uran+nama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a-IR" sz="4400" spc="-1" strike="noStrike">
                <a:solidFill>
                  <a:srgbClr val="ffc000"/>
                </a:solidFill>
                <a:latin typeface="Calibri"/>
              </a:rPr>
              <a:t> بِسم الله الرَحمن الرَحیم </a:t>
            </a: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للّهُمَّ اِنّي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اَسئَلُُکَ موجِباتِ رَحمَتِک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عَزآئِمَ مَغفِرَتِک وَالنَجاةَ مِن النّارِ وَ مِن کلِّ بَلیَّة وَالفَوزَ بِالجَنَّةِ وَالرَّضوانَ في دارِالسَّلامِ وَ جِوارِنَبیِّکَ مُحَمَّدعَلَیهِ وَآلِهِ السَّلام اَللّهُمَّ مَا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بِنا مِن نِعمَة فَمِنک لا اِلهَ اِلاّ اَنت 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اَستَغفِرُکَ</a:t>
            </a:r>
            <a:r>
              <a:rPr b="1" lang="fa-I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 وَ اتوبُ اِلَیک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55:53Z</dcterms:created>
  <dc:creator>Hadi Najar</dc:creator>
  <dc:description/>
  <dc:language>en-US</dc:language>
  <cp:lastModifiedBy>Seyed Mohammad Kazem Motallebi</cp:lastModifiedBy>
  <dcterms:modified xsi:type="dcterms:W3CDTF">2008-02-07T05:42:13Z</dcterms:modified>
  <cp:revision>10</cp:revision>
  <dc:subject/>
  <dc:title>Namaz Maghrib</dc:title>
</cp:coreProperties>
</file>