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8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11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16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21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12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69.xml.rels" ContentType="application/vnd.openxmlformats-package.relationships+xml"/>
  <Override PartName="/ppt/slides/_rels/slide165.xml.rels" ContentType="application/vnd.openxmlformats-package.relationships+xml"/>
  <Override PartName="/ppt/slides/_rels/slide88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120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5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56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43.xml.rels" ContentType="application/vnd.openxmlformats-package.relationships+xml"/>
  <Override PartName="/ppt/slides/_rels/slide133.xml.rels" ContentType="application/vnd.openxmlformats-package.relationships+xml"/>
  <Override PartName="/ppt/slides/_rels/slide77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67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83.xml.rels" ContentType="application/vnd.openxmlformats-package.relationships+xml"/>
  <Override PartName="/ppt/slides/_rels/slide39.xml.rels" ContentType="application/vnd.openxmlformats-package.relationships+xml"/>
  <Override PartName="/ppt/slides/_rels/slide116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66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60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43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165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</p:sldIdLst>
  <p:sldSz cx="9907588" cy="6858000"/>
  <p:notesSz cx="6858000" cy="9144000"/>
  <p:custShowLst>
    <p:custShow name="Custom Show 1" id="0">
      <p:sldLst>
        <p:sld r:id="rId8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FF086-C5CC-480A-914E-6A9E0AD9C9D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9AD87-FB4A-4E0B-BADF-4F93580976C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4AAD1-D21A-47C2-9AFD-AAA5B8EFF9F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80CF1-DEBE-4EAD-A100-4D8B8E5373D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5544B-E09F-4C03-8C93-07A117CB57C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39CEF-6E27-4583-AED9-EFA99040445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BFFF3-4361-48D2-B7F3-4729B0B715D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D3E9E-EC57-46AC-8780-30A7DE49129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6E824-68DE-4A03-BF55-F88DA997A25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53DD3-76EA-4B88-B6B9-9F913635BD4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0F6F9-DB85-40B0-AEED-3E3EC9BC071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044BC-5AF7-4493-8312-776B46FC0B4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59CDB-4AF3-4E76-91BD-57C880C47DE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87BA8-5EEF-49F1-854C-0DBDA16D974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5203A-EBD2-4C97-B1CB-FF92D36BC2E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AA6BA-113F-414B-A5C4-1B9402C575F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16BC5-4D7E-45BF-9BD5-A9A21D118D3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97CEB-22FD-4F56-A05D-71E2DC2EF16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15428-D62C-474A-8075-A9C64AEC1C2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6C304-4149-4312-BEE4-E2F1F41DAD6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C3E0B-FD3B-42A6-8C5F-B9E1DA34824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E1B8F-B49E-48BB-9ECB-18257D488CE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2B91F-4CB2-4478-BCA0-02F1996F146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81399-CBC2-4A29-B47B-F3FE198FC9B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089A7-5DCD-4373-A911-C29B5342692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DC40B-6BE8-4FD6-AD62-69B4B97C385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6C3BB-C858-45BD-93E1-7D6E4E1EB0F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78361-4536-4A5E-8712-034036E56AE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FBD1D-E27A-488A-9B45-0C5A551DF5A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2C230-F1EF-4682-916D-1501F695B21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75D4B-07F5-4238-93F2-53456CC405F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4712B-A47E-4DDF-80DF-1787809A49A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3E0DC-3DD1-48AE-BC28-38726BAE21F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57DA3-6A0A-424F-B177-24309ACEDED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8AA55-F21A-43B1-974F-739255974AA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9640B-53D6-4D71-9B65-90835F9098A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7C74E-B5C4-4754-9C95-309CC924759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55BB5-839E-43BF-96E8-457144ACD06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3EA2A-6A1B-49A7-9077-C0222264CDE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4FEFD-4862-40C9-B121-88CC1B7AA0F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2C13F-C354-438A-BDD4-52C5E7086C1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0A426-7183-4EBE-9B0B-43440EE7249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B5AE5-B389-4DA5-8FDF-136116C5F93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24B58-F67D-483A-BA25-B5F39F32A61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6DE01-758D-4B40-9A30-BDBDBE9F9D4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17699-B8AB-4B02-B34D-2B284D8A8D3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C313F-DF01-4A2B-B0E6-D4E35B6B441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B40F5-4D35-4E2E-B5A7-B763B517E06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6A22E-051E-45E8-AA88-515F2C72466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8C2B3-3F06-4D35-BAA2-596EA67AB2E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3AF2D-952E-4224-AA4B-DDE7ADB32EA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7CD23-75BC-4A23-85A3-97D2A82A5EE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7D638-0BB7-4D95-B98A-F46B538BAFF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C9E8B-23C6-4460-8A43-190AAC734B9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02A3D-812D-4D73-8AEF-72160646D3E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1355D-5527-410E-8BA7-CA67D5B2CAF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B3E36-2526-4949-9FDE-ED08805C0F0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C9BC4-FD58-4492-8E1D-0982D59347C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FDB0D-F294-435C-BD92-29B5726D3F6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98DB9-3F9C-4497-BA69-D456AB27C6C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FDA60-8E98-4726-8D71-B21EA3D0F70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4F75F-BCB9-4822-90AD-6298DBBE284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33346-8C37-4903-AA55-3A9EE739DD7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93671-0DE8-4F2F-B458-40144060C8A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5E687-4F86-4DDD-BC37-1A6EDA1675F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1DE66-2988-40CE-A9C5-61576CCA66F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F0A87-13E6-40EB-8D0E-8E459F21938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C9443-CBEC-4D79-B763-AE918908C91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81F3E-C331-4542-8D2C-3EC87F0EB46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3D967-7E4C-42A0-B90F-D44BF565288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8F021-E746-40A9-A496-91ADA834A2B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FE8F9-3B47-489C-A57A-99594C4A634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6EC34-5A16-4A93-92C2-2BA3B786D50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FD0D3-B871-4743-A0BB-4DC1D87ED4E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B4B6C-8EE5-4EF8-B2E2-1DB829D858D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E87F2-8DE0-4B74-9D42-D601D0C8E46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A1CF5-8569-4256-8EA0-1659F7CF3A7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8F433-7032-4836-A1A0-2803FABA0C9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10F79-9472-4C85-8BB6-290BC9AA21D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3EA66-691A-4F11-BCCD-DDBAC5CE0F2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5048A-159E-49B4-B077-D5C5E5F6811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366ED-817D-49A3-B8D7-353F5044027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F7004-8782-4412-A052-D558F1B231A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AC924-F02A-4E34-B4A4-7842D4B03B2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D1BDB-A508-4532-A2F0-B1E85A5B771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B237E-D8B7-4421-9100-9CD12E96DBF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DCDFB-B9B9-46F0-AFC7-5AE7FEEE021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F9101-DB59-439F-A1BA-74A6687EFB4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CB1C9-1091-4AC7-99F5-6794F6A76DB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BBAB3-D5CA-4A94-8518-3AE281440DF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CC7EE-F75A-4AC2-B282-DB0237E6CEC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C2137-F2B1-4D24-89D5-CF689408326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5AFF1-CA72-477D-B7C0-B2F692B108D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58764-E3AF-4E39-A407-7E3BAA95605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562A6-FBA9-4721-964D-FDF3BAB592C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325A3-43C3-427C-B7DB-B6FA70B031F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AF97E-66A8-4E49-A918-E2B6498E1F4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7FD58-8B98-47EF-AECA-8F52455C69C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76240-01B1-46B2-AEC7-B505056BF1B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0FCC3-B53C-457D-BE98-4D067DC9957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AF009-9F40-46B8-8C41-8F54837EA2F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FEC7F-B2EA-4CED-AEF6-1538B1D6497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9FEFB-3C2E-44EF-A3CE-A7ED380D85A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E7F36-4BDA-493C-8448-23D1F737C0B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8BA3C-D773-4C14-A066-5A8244DAF5A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16FE2-61BA-4859-99F5-F806597976E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9EC40-251D-4C63-AC90-32CF930D2D3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46504-D035-4C79-A0E7-787AB75F8C6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90F63-762E-435F-8594-6620597C9FB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6031B-B51B-4204-835A-E201DD0C58A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A9F88-82E7-4BC6-9DC1-BC00A866658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FC3F1-91BD-43E8-B6EC-9112D130D5B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DC155-8354-4DA3-B0C6-A84982E9971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C92F3-D0C5-483A-80B7-7116C6BE4D7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23A8B-6A47-4D13-B4F8-711047A11A6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915D4-EFF9-43DF-B985-FE83A200440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B0974-AA53-4B8F-8DDD-B6D05D06333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B5283-038E-4683-9A5E-C72EE256156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2D8CE-F738-45F0-9D50-184AF392200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6C1E7-843D-492E-8F44-D55F3F8B1BC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4D2A6-9D72-415F-842E-ACBD57D1092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F26FB-9160-4F84-8CF4-D7893B13778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F2FD9-939D-423F-81D3-1352E21E061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5C843-C90B-4636-9EF9-DE0DCF195B6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EACCF-4DC0-40B0-A6FD-CDFAE500B15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7CAAE-5A6C-4384-8337-F4ECA37D9B3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1B620-3498-4A6D-B55F-CA2C9B1405D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4F3D7-34B6-4BEF-8344-A2FE67A6E30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95911-D6B5-457C-8863-E0E2DA8D204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8907B-869B-401C-8753-10831387B73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2A60A-41EB-4CFF-B2A9-92779671694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C1991-DCB9-4B2B-9E99-80B044558CC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B88F2-D53C-4397-AD0B-7E62D79E8F0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83B26-C315-4AF0-BA27-425E19E5B3D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A6EDA-C9BD-4108-80E0-DD9C214BFB5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2D4B8-47E8-4B63-8F3A-1380FFEF518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B180D-0961-4A53-A7EA-0DE9BCE7E52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78638-2F1E-4D05-89D4-3F1880E327A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85DCE-FA89-4FB2-AEB0-798786FF2B6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ECD1B-BD54-4365-A0AF-71A7C4BB11E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FD192-612A-42F3-9E81-0F0C30E6AF0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D7AAC-0A93-48ED-8965-CCC1D5024DF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E03A9-5BC4-403E-AF75-5FBA6B3436C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70D11-61F2-4FB9-8CFA-FF461F49CD7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D8D92-0992-4CE7-A7AB-FB9029DD423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7FB55-335F-4ACA-BB88-F6ACB1A6300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2FA2D-4ACB-4ADE-BC40-D2D724BD7FF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D5EAE-6568-4534-903A-381CEE764D6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BDD14-36A7-4A3E-963A-3210449720E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AD4A3-A1DE-40D5-8C2C-10724D51D4D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7CE1F-FDCE-4465-A4D4-A5B9F77C0F7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1F22F-81DC-4911-B46B-18A23244493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18C42-D88D-498F-8A32-1546CD16821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2BDA6-9AE3-4984-8B84-B6F7B1B1BE9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101A8-05EA-49A7-9908-013FBCD953C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B3D65-FE63-4DB3-B295-94E8AE0888D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A1491-23F3-4F8C-B01A-1E3C33F461E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4A36D-5873-4BE4-A09F-2B8E36BA1CE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D1952-C927-4B1B-8C1F-305F1726A68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BB04C-57A2-460C-9187-65D3050F2CD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F5983-5264-4429-B2FC-1C86E338EF3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40E14-FB80-4C92-A66C-E1192B9E4DC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1E25F-5635-47B4-B5A1-B4A43ECAE1B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AD370-797F-4E4F-BABF-9CDECC443C6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018AE-C4BE-43D5-8710-AEFAA0820DF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0B3AC-E66C-4B1F-BC01-D161EC59EEF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81E15-AD9C-4B9B-AC86-C7651D6A9FE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2C95D-89C3-4C52-A338-B1AC52B6679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2520" y="33300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3178B-FCF2-48D0-8095-28A57C1CE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520" y="33300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E8268-AEB4-4A3A-838A-919C8EBE5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2520" y="33300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656C4-4699-4791-88E5-9FE02A66416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2520" y="33300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FF6C3-0C89-4C68-9C10-22BE3A49A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2520" y="33300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6AB0A-9A67-434D-B85D-CC7622097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2520" y="33300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A722F-3F0D-4739-9684-73EABC886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520" y="33300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B735D-EC47-4D31-B005-0258584BC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2520" y="7957800"/>
            <a:ext cx="941076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B0E6A-2994-4DA9-9CED-3480B3A29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2520" y="33300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B59C9-C77F-4EFB-97CF-FB1D392A1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2520" y="33300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FDA43-FABF-49CB-9748-B86A5EFE5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2520" y="33300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A3C72-1BCB-4821-8C70-F39879E80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606D0-D9EC-40D4-8722-CC2818B8042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272520" y="33300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906120" cy="6889680"/>
          </a:xfrm>
          <a:prstGeom prst="rect">
            <a:avLst/>
          </a:prstGeom>
          <a:ln w="0">
            <a:noFill/>
          </a:ln>
        </p:spPr>
      </p:pic>
      <p:pic>
        <p:nvPicPr>
          <p:cNvPr id="4" name="Picture 12" descr="komail banner"/>
          <p:cNvPicPr/>
          <p:nvPr/>
        </p:nvPicPr>
        <p:blipFill>
          <a:blip r:embed="rId3"/>
          <a:stretch/>
        </p:blipFill>
        <p:spPr>
          <a:xfrm>
            <a:off x="0" y="6194520"/>
            <a:ext cx="9906120" cy="76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madinah.jpg"/>
          <p:cNvPicPr/>
          <p:nvPr/>
        </p:nvPicPr>
        <p:blipFill>
          <a:blip r:embed="rId1"/>
          <a:stretch/>
        </p:blipFill>
        <p:spPr>
          <a:xfrm>
            <a:off x="0" y="-44280"/>
            <a:ext cx="9906120" cy="70005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5"/>
          <p:cNvSpPr/>
          <p:nvPr/>
        </p:nvSpPr>
        <p:spPr>
          <a:xfrm>
            <a:off x="2998800" y="262080"/>
            <a:ext cx="360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عای کمیل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èAØáw ëÄâ¾ áÉC¾ånF åVÜáÆ ØãXéÂB áÀãMCÇåsGãQ áÑ</a:t>
            </a:r>
            <a:br>
              <a:rPr sz="6000"/>
            </a:br>
            <a:br>
              <a:rPr sz="6000"/>
            </a:br>
            <a:br>
              <a:rPr sz="2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نامهاى مقدس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ساس هر موجودى را پر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90612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000" spc="-1" strike="noStrike">
                <a:solidFill>
                  <a:srgbClr val="000099"/>
                </a:solidFill>
                <a:latin typeface="Karbala"/>
              </a:rPr>
              <a:t>,áÌ×ã¶ãnC¯ÂB ãÁCÆD áUáÖC² CÖ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منتهاى آرمان</a:t>
            </a:r>
            <a:r>
              <a:rPr b="1" lang="fa-IR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ارفان</a:t>
            </a:r>
            <a:br>
              <a:rPr sz="4500"/>
            </a:b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99061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99"/>
                </a:solidFill>
                <a:latin typeface="Karbala"/>
              </a:rPr>
              <a:t>,áÌ×ã\å×ã³áXåtâÇÂB ZC×ã² CÖ</a:t>
            </a:r>
            <a:br>
              <a:rPr sz="7200"/>
            </a:br>
            <a:br>
              <a:rPr sz="7200"/>
            </a:br>
            <a:br>
              <a:rPr sz="4000"/>
            </a:br>
            <a:r>
              <a:rPr b="0" lang="fa-IR" sz="7200" spc="-1" strike="noStrike">
                <a:solidFill>
                  <a:srgbClr val="000000"/>
                </a:solidFill>
                <a:latin typeface="Karbala"/>
                <a:ea typeface="Arial"/>
              </a:rPr>
              <a:t> </a:t>
            </a:r>
            <a:r>
              <a:rPr b="1" lang="fa-IR" sz="4500" spc="-1" strike="noStrike">
                <a:solidFill>
                  <a:srgbClr val="000000"/>
                </a:solidFill>
                <a:latin typeface="Karbala"/>
                <a:cs typeface="Arial"/>
              </a:rPr>
              <a:t>ای </a:t>
            </a: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ريادرس درماندگان</a:t>
            </a:r>
            <a:br>
              <a:rPr sz="4500"/>
            </a:b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99061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7200" spc="-1" strike="noStrike">
                <a:solidFill>
                  <a:srgbClr val="000099"/>
                </a:solidFill>
                <a:latin typeface="Karbala"/>
              </a:rPr>
              <a:t>áÑ ,áÌ×ãºãjCé|ÂB ãPÒâÃâº áSå×ãRác CÖ</a:t>
            </a:r>
            <a:r>
              <a:rPr b="0" lang="en-GB" sz="72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7200"/>
            </a:br>
            <a:br>
              <a:rPr sz="7200"/>
            </a:br>
            <a:br>
              <a:rPr sz="4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محبوب دل راستگويان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،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</a:t>
            </a:r>
            <a:br>
              <a:rPr sz="4200"/>
            </a:b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-360" y="-171720"/>
            <a:ext cx="99061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7200" spc="-1" strike="noStrike">
                <a:solidFill>
                  <a:srgbClr val="000099"/>
                </a:solidFill>
                <a:latin typeface="Karbala"/>
              </a:rPr>
              <a:t>,áÌ×ãÇáÂC¯ÂB áÐÂH CÖ</a:t>
            </a:r>
            <a:br>
              <a:rPr sz="7200"/>
            </a:br>
            <a:br>
              <a:rPr sz="7200"/>
            </a:br>
            <a:br>
              <a:rPr sz="7200"/>
            </a:br>
            <a:r>
              <a:rPr b="1" lang="fa-IR" sz="4500" spc="-1" strike="noStrike">
                <a:solidFill>
                  <a:srgbClr val="000000"/>
                </a:solidFill>
                <a:latin typeface="Karbala"/>
                <a:cs typeface="Arial"/>
              </a:rPr>
              <a:t>ای </a:t>
            </a: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يران </a:t>
            </a:r>
            <a:r>
              <a:rPr b="1" lang="fa-IR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نده عالميان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1760" y="42084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½ãkåÇádãQ áÑ ØãÏÂH CÖ áÀáÊCdåRâs á½BoâXá¶F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CÏå×ã¶ áÌã`âs èÈãÃåtâÆ èk~åRá® áVåÒá{ CÏå×ã¶ â°áÇåtáW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آيا براستى چنان مى بينى اى منزه و معبودم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ه ستايشت مشغولم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شنوى در آن آتش صداى بنده مسلمان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در اثر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60" y="2700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ãÐãXá×ã|å¯áÇãQ CÏãQBmá® áÈå¯á¦ á¹Bl áÑ ,ãÐãXá·áÂChâÇãQ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á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Ñ ,ãÐãWáoåÖãoá_ áÑ ãÐãÆåoâ`ãQ CÏãºCRå¦F áÌå×áQ áuãRâc áÑ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r>
              <a:rPr b="0" lang="fa-IR" sz="500" spc="-1" strike="noStrike">
                <a:solidFill>
                  <a:srgbClr val="000000"/>
                </a:solidFill>
                <a:latin typeface="Karbala"/>
                <a:ea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بقات دوزخ به واسطه جرم و جنايتش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گرفتار شده</a:t>
            </a:r>
            <a:r>
              <a:rPr b="1" lang="fa-IR" sz="500" spc="-1" strike="noStrike">
                <a:solidFill>
                  <a:srgbClr val="000000"/>
                </a:solidFill>
                <a:latin typeface="Karbala"/>
                <a:ea typeface="Arial"/>
              </a:rPr>
              <a:t> </a:t>
            </a:r>
            <a:br>
              <a:rPr sz="500"/>
            </a:br>
            <a:br>
              <a:rPr sz="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خالفتش در آنجا زندانى شده و مزه عذاب آتش را به خاطر نافرمانيش چشيده و در ميان</a:t>
            </a:r>
            <a:r>
              <a:rPr b="0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16200" y="-31608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5500" spc="-1" strike="noStrike">
                <a:solidFill>
                  <a:srgbClr val="000099"/>
                </a:solidFill>
                <a:latin typeface="Karbala"/>
              </a:rPr>
              <a:t>áÑ ,áÀãXáÇåcáoãÂ èÄëÆáKâÆ áaå×ã`á¢ áÀå×áÂH êaã£áÖ áÒâÎ</a:t>
            </a:r>
            <a:br>
              <a:rPr sz="5500"/>
            </a:br>
            <a:r>
              <a:rPr b="1" lang="en-GB" sz="5500" spc="-1" strike="noStrike">
                <a:solidFill>
                  <a:srgbClr val="000099"/>
                </a:solidFill>
                <a:latin typeface="Karbala"/>
              </a:rPr>
              <a:t>,á½ãk×ãcåÒáW  ãÄåÎF ãÉCtãÃãQ áÀåÖãjCËâÖ</a:t>
            </a:r>
            <a:br>
              <a:rPr sz="5500"/>
            </a:br>
            <a:r>
              <a:rPr b="1" lang="en-GB" sz="5500" spc="-1" strike="noStrike">
                <a:solidFill>
                  <a:srgbClr val="000099"/>
                </a:solidFill>
                <a:latin typeface="Karbala"/>
              </a:rPr>
              <a:t> ,áÀãXé×ãQÒâQâoãQ áÀå×áÂH</a:t>
            </a:r>
            <a:r>
              <a:rPr b="0" lang="en-GB" sz="55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5500" spc="-1" strike="noStrike">
                <a:solidFill>
                  <a:srgbClr val="000099"/>
                </a:solidFill>
                <a:latin typeface="Karbala"/>
              </a:rPr>
              <a:t>âÄésáÒáXáÖ áÑ</a:t>
            </a:r>
            <a:br>
              <a:rPr sz="5500"/>
            </a:br>
            <a:br>
              <a:rPr sz="5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در آن حال به درگاهت شيون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د شيون شخص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آرزومند رحمت تو است و به زبان يگانه پرستان تو را فرياد زند و به بنده پروريت متوسل گرد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ÒâÎ áÑ ãPBmá¯ÂB Øã¶ Ô»åRáÖ á¸å×á¿á¶ áÕÙåÒáÆ CÖ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ÀãÇåÃãc åÌãÆ á¸áÃás CÆ Òâ_åoáÖ</a:t>
            </a:r>
            <a:br>
              <a:rPr sz="6000"/>
            </a:br>
            <a:br>
              <a:rPr sz="6000"/>
            </a:br>
            <a:br>
              <a:rPr sz="8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مولاى من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س چگونه در عذاب بماند با اينكه به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دبارى سابقه دارت چشم اميد دار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493200"/>
            <a:ext cx="990612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Ñ áÀáÃå£á¶ âÄâÆGÖ áÒâÎ áÑ ânCéËÂB âÐâÇãÂåKâW á¸å×á¾ åÅF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25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ا چگونه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آتش او را بيازارد با</a:t>
            </a:r>
            <a:br>
              <a:rPr sz="4200"/>
            </a:br>
            <a:r>
              <a:rPr b="1" lang="ar-SA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ينكه آرزوى فضل و</a:t>
            </a:r>
            <a:br>
              <a:rPr sz="40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94840" y="56484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YåÊF áÑ CáÏâRå×ãÏáÂ âÐâºãoådâÖ á¸å×á¾ åÅF ,áÀáXáÇåcán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¸å×á¾ åÅF ,âÐáÊC¿áÆ ÓoáW áÑ âÐáWåÒá{ â°áÇåtáW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2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حمت تو را دارد يا چگونه شعله آتش او را بسوزاند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ا اينكه تو صدايش را بشنوى و جايش را ببينى يا چگونه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èAØáw ëÄâ¿ãQ á¦CcF  Õãm~~~~é~ÂB áÀãÇåÃã¯ãQ áÑ</a:t>
            </a:r>
            <a:br>
              <a:rPr sz="6600"/>
            </a:br>
            <a:br>
              <a:rPr sz="6600"/>
            </a:br>
            <a:br>
              <a:rPr sz="6600"/>
            </a:br>
            <a:br>
              <a:rPr sz="2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 آن علم و دانش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حاطه يافته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 هر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چيز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10008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ÅF ,âÐá·å¯á¢ âÈáÃå¯áW áYåÊF áÑ CÎâo×ã¶áp ãÐå×áÃá® âÄãÇáXåxáÖ</a:t>
            </a:r>
            <a:br>
              <a:rPr sz="25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â</a:t>
            </a:r>
            <a:br>
              <a:rPr sz="25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ÈáÃå¯áW áYåÊF áÑ CÏãºCRå¦F áÌå×áQ âÄá»åÃá»áXáÖ á¸å×á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¾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راره هاى آتش او را دربرگيرد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ا اينكه تو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اتوانيش دان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ا چگونه در ميان طبقات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آتش دست و پا زند با اينكه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1760" y="0"/>
            <a:ext cx="941076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ÒâÎ áÑ CÏâXá×ãÊCQáp âÍâoâ_åqáW á¸å×á¾ åÅF ,âÐáºåkã{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âÍéQán CÖ áÀÖãjCËâÖ</a:t>
            </a:r>
            <a:br>
              <a:rPr sz="6000"/>
            </a:br>
            <a:br>
              <a:rPr sz="2900"/>
            </a:br>
            <a:br>
              <a:rPr sz="29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و صدق و راستگوئيش را دانى يا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چگونه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و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ان دوزخ او را با تندى برانند با اينكه تو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ا به پروردگارى بخوان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âÐá¾âoåXáXá¶ CÏåËãÆ ãÐã»åXã® Øã¶ áÀáÃå£á¶ Òâ_åoáÖ á¸å×á¾ åÅF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CÏå×ã¶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ا چگونه ممكن اس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ميد فضل تو را در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آزادى خويش داشته باش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7252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âµÑâoå¯áÇÂB Ù áÑ ,áÀãQ âÌé~«ÂB áÀãÂl CÆ áVCÏå×áÎ</a:t>
            </a:r>
            <a:br>
              <a:rPr sz="6000"/>
            </a:br>
            <a:br>
              <a:rPr sz="60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لى تو او را به حال خود واگذارى چه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سيار از تو دور اس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1760" y="18900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ãÐãQ áYå~ÃáÆC® CÇãÂ äÐãRåxâÆ Ù áÑ ,áÀãÃå£á¶ åÌãÆ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.áÀãÊCtåcH áÑ á½éoãQ åÌãÆ áÌÖãkëcáÒâÇÂB</a:t>
            </a: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چنين گمانى به تو نيست و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ضل تو اينسان معروف نيست و نه شباهت با رفتار تو نسبت به يگانه پرستان دارد با آن نيكى و احسان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72520" y="11556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ÌãÆ ãÐãQ áYåÇá¿ác CÆ ÙåÒáÂ â°á§åºF ãÌ×ã»á×ÂCãRá¶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نسبت بدانها دارى و من بطور قطع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ى دانم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گر فرمان ت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1760" y="11556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ãjÚågH åÌãÆ ãÐãQ áYå×á£áº áÑ ,áÀÖãkãcC_ ãSÖãmå¯áW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2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ر معذب ساختن منكرانت صادر نشده بود و حكم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تو به هميشه ماندن در عذاب براى دشمنانت در کار نبود</a:t>
            </a:r>
            <a:r>
              <a:rPr b="0" lang="fa-IR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9484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Ñ æBjåoáQ CÏáÃâ¾ ánCéËÂB áYå~Ãá¯á`áÂ ,áÀÖãkãÊC¯âÆ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تماً آتش دوزخ را هر چه بود به تمامى سرد و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9484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Ù áÑ æBéoá»áÆ CÏ×ã¶ èkácÛ áÉC¾ CÆ áÑ ,æCÆÚás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الم م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ى و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يچكس در آن منز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7252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ÉF áYåÇátåºF á½âJCÇåsF åYáséká»áW áÀéËã¿Â ,æCÆC»âÆ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2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ما</a:t>
            </a:r>
            <a:r>
              <a:rPr b="1" lang="ar-SA" sz="3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ء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ا نداشت ولى تو اى خداي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ه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تمام نامهايت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دس است سوگند ياد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ه ا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دوزخ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èAØáw êÄâ¾ âÐáÂ áAC¢F ÕãméÂB áÀãÏå_áÑ ãnÒâËãQ áÑ</a:t>
            </a:r>
            <a:br>
              <a:rPr sz="6000"/>
            </a:br>
            <a:br>
              <a:rPr sz="6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نور ذات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روشن شد در پرتوش هر چي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ãrCéËÂB áÑ ãUéËã`ÂB áÌãÆ áÌÖãoã¶C¿ÂB áÌãÆ CÎÜåÇáW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áÌÖãkãÊC¯âÇÂB CÏ×ã¶ ákëÃáhâW åÉF áÑ  ,áÌ×ã¯áÇå_F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ا از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فران از پريان و آدميان پر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ى و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شمنانت را براى هميشه در آن جا دهى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90612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YåÂéÒá§áW áÑ æCMãkáXåRâÆ áYåÃâº á½âJCËá[ éÄá_ áYåÊF áÑ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تو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مد ثنايت برجسته است در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بتداء بدون سابقه فرمود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ÌáÇá¾ æCËãÆåKâÆ áÉC¾ åÌáÇá¶F ,æCÆëoá¿áXâÆ ãÅC¯åÊßCãQ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áÉÑâÒáXåtáÖ Ù æC»ãsC¶ áÉC¾</a:t>
            </a: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 اين انعام از روى بزرگوارى تفضل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فرمود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ه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(آي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س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ه مؤمن است مانند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سى است </a:t>
            </a:r>
            <a:br>
              <a:rPr sz="4000"/>
            </a:b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ه فاسق است ؟ نه يكسان نيستند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GB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90612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ØãXäÂB ãTánåkâ»åÂCãQ áÀâÂGåsG¶ Õãkë×ás áÑ ØãÏÂH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CÏáWånékáº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معبود من 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آقاى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،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 بحق آن نيرويى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99"/>
                </a:solidFill>
                <a:latin typeface="Karbala"/>
              </a:rPr>
              <a:t>áÑ CÏáXåÇáXác ØãXäÂB ãUé×ã£á»ÂCãQ áÑ</a:t>
            </a:r>
            <a:br>
              <a:rPr sz="7200"/>
            </a:br>
            <a:br>
              <a:rPr sz="7200"/>
            </a:b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مقدرش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ى و به فرمان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مسلمش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ى 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72520" y="20448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ÉF ,CÏáXåÖáoå_F ãÐå×áÃá® åÌáÆ áYåRáÃá² áÑ ,CÏáXåÇá¿ác</a:t>
            </a:r>
            <a:br>
              <a:rPr sz="25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ã</a:t>
            </a:r>
            <a:br>
              <a:rPr sz="25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Uá®CätÂB ãÍãmÎ Øã¶ áÑ ãÐáÃå×äÃÂB ãÍãmÎ Øã¶ ØãÂ áSáÏáW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صادر فرمود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ر هر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 آن را اجرا </a:t>
            </a:r>
            <a:br>
              <a:rPr sz="4000"/>
            </a:b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ى مسلط گشتى از تو مى خواهم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بخشى بر من در اين شب و در اين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اع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Ñ ,âÐâXåRáÊålF èSåÊál éÄâ¾ áÑ ,âÐâXåÆáoå_F èÅåoâ_ éÄâ¾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ر جرمى ر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مرتكب شده ام و هر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گناهى ر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ز من سرزده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00160" y="259920"/>
            <a:ext cx="941040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âÐâXåÃãÇá® èÄåÏá_ éÄâ¾ áÑ ,âÐâWånáoåsF èeå×ãRáº  éÄâ¾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ر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ر زشتى ر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پنهان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ه ام و هر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ادان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م</a:t>
            </a: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360" y="17136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éÄâ¾ áÑ ,âÐâWåoáÏå~ªF åÑF âÐâXå×á·ågF âÐâXåËáÃå®F åÑF âÐâXåÇáXá¾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Ì×ãRãWC¿ÂB áÅBáoã¿ÂB CÏãWCRå[IãQ áVåoáÆF èUáNë×ás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چه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مان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م و چه آشكار چه پنهان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م و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چه در عيان و هر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ر بدى ر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ه نويسندگان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گراميت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ستور يادداش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نش را دادى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-360" y="-26028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Ñ ,ØëËãÆ âÉÒâ¿áÖ CÆ ã«å·ãdãQ åÈâÏáXåÃé¾áÑ áÌÖãmäÂB</a:t>
            </a:r>
            <a:br>
              <a:rPr sz="25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á</a:t>
            </a:r>
            <a:br>
              <a:rPr sz="25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YåËâ¾ áÑ ,ØãcãnBÒá_ á°áÆ éØáÃá® æBjÒâÏâw åÈâÏáXåÃá¯á_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مان نويسندگان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آنها را مو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 بر ثبت اعمال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ى و آنها را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 ضميمه اعضاء و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جوارحم گواه بر من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ى 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000" spc="-1" strike="noStrike">
                <a:solidFill>
                  <a:srgbClr val="000099"/>
                </a:solidFill>
                <a:latin typeface="Karbala"/>
              </a:rPr>
              <a:t>,ârÑêkâº CÖ ânÒâÊ CÖ</a:t>
            </a:r>
            <a:br>
              <a:rPr sz="7000"/>
            </a:br>
            <a:br>
              <a:rPr sz="7200"/>
            </a:br>
            <a:r>
              <a:rPr b="1" lang="en-GB" sz="72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نور حقيقى و اى منزه از هر عي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72520" y="20448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kãÎCéxÂB áÑ ,åÈãÏãMBnáÑ åÌãÆ éØáÃá® áSå×ãºäoÂB áYåÊF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åÈâÏåËá® áØã·ág CÇãÂ</a:t>
            </a:r>
            <a:br>
              <a:rPr sz="6000"/>
            </a:br>
            <a:br>
              <a:rPr sz="6000"/>
            </a:br>
            <a:br>
              <a:rPr sz="2000"/>
            </a:b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ضافه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 آنها خودت نيز مراقب من بودى و</a:t>
            </a:r>
            <a:r>
              <a:rPr b="1" lang="en-GB" sz="4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گواه اعمالى بود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ز ايشان پنهان مى مان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âÐáWåoáXás áÀãÃå£á·ãQ áÑ ,âÐáXå×á·ågF áÀãXáÇåcáoãQ áÑ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البته به واسطه رحمتت بود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ه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آنها را پنهان داشتى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از روى فضل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ود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وشاند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ÑF ,âÐáXåÂáqåÊF èoå×ág ëÄâ¾  åÌãÆ Øë«ác áoë¶áÒâW åÉF áÑ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نيز خواهم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هره ام را وافر و سرشار گردانى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ز هر خير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فرو ريز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è¹åpãn åÑF ,âÐáWåoáxáÊ èäoãQ åÑF ,âÐáXåÃé£á¶ èÉCtåcH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28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ا احسان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فرمائى يا نيكيهايى</a:t>
            </a:r>
            <a:br>
              <a:rPr sz="4000"/>
            </a:b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خش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ى يا رزق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âÍâoâXåtáW èI§ág åÑF ,âÍâoã·å³áW  èSåÊál åÑF ,âÐáXå§átáQ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گسترانى يا گناه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يامرزى يا خطاي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پوشانى</a:t>
            </a: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c00000"/>
                </a:solidFill>
                <a:latin typeface="Karbala"/>
              </a:rPr>
              <a:t>,</a:t>
            </a:r>
            <a:r>
              <a:rPr b="1" lang="en-GB" sz="7200" spc="-1" strike="noStrike">
                <a:solidFill>
                  <a:srgbClr val="c00000"/>
                </a:solidFill>
                <a:latin typeface="Karbala"/>
              </a:rPr>
              <a:t>ëPán CÖ ëPán CÖ ëPán CÖ</a:t>
            </a:r>
            <a:br>
              <a:rPr sz="7200"/>
            </a:br>
            <a:r>
              <a:rPr b="0" lang="en-GB" sz="72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72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روردگارا پروردگارا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روردگارا</a:t>
            </a:r>
            <a:br>
              <a:rPr sz="4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72520" y="25992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,áÕÙåÒáÆ áÑ Õãkë×ás áÑ ØãÏÂH CÖ </a:t>
            </a:r>
            <a:br>
              <a:rPr sz="6600"/>
            </a:b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 ãÍãká×ãQ åÌáÆ CÖ ,Øëºãn áÀãÂCÆ áÑ</a:t>
            </a:r>
            <a:r>
              <a:rPr b="0" lang="en-GB" sz="66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600"/>
            </a:br>
            <a:br>
              <a:rPr sz="66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معبود من اى آقا و مولايم و اى مالك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 ا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ختيارم بدست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وس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360" y="-17136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CÖ ,ØãXáËá¿åtáÆ áÑ Õëoâ£ãQ æCÇ×ãÃá® CÖ ,ØãXá×ã{CÊ</a:t>
            </a:r>
            <a:br>
              <a:rPr sz="6000"/>
            </a:br>
            <a:br>
              <a:rPr sz="25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ØãXáºC¶ áÑ Õãoå»á·ãQ æBoå×ãRág</a:t>
            </a:r>
            <a:br>
              <a:rPr sz="6000"/>
            </a:br>
            <a:br>
              <a:rPr sz="6000"/>
            </a:br>
            <a:br>
              <a:rPr sz="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داناى بر پريشانى و بى نوائيم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آگه از بى چيزى و نداري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c00000"/>
                </a:solidFill>
                <a:latin typeface="Karbala"/>
              </a:rPr>
              <a:t>,ëPán CÖ ëPán CÖ ëPán CÖ</a:t>
            </a:r>
            <a:br>
              <a:rPr sz="7200"/>
            </a:br>
            <a:br>
              <a:rPr sz="72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روردگارا، پروردگارا پروردگارا</a:t>
            </a:r>
            <a:r>
              <a:rPr b="0" lang="en-GB" sz="72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ãÈá«å®F áÑ ,áÀãsåkâº áÑ áÀë»ádãQ áÀâÂGåsF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ÌãÆ ØãWCºåÑF áÄá¯å`áW åÉF ,áÀãMCÇåsF áÑ áÀãWC·ã{</a:t>
            </a:r>
            <a:br>
              <a:rPr sz="60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ز تو مى خواهم به حق خودت و به ذات مقدست و به بزرگترين صفات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اسمائ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وقاتم ر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CÖ áÑ ,áÌ~~~×ãÂéÑÛB áÁéÑF CÖ</a:t>
            </a:r>
            <a:br>
              <a:rPr sz="66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600"/>
            </a:b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 .áÌ~ÖoãgÝB áoãgD</a:t>
            </a:r>
            <a:br>
              <a:rPr sz="66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آغاز موجودات اولين و اى پايان آخرين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ÀãXáÆåkãhãQ áÑ ,æTánÒâÇå¯áÆ á½ãoå¾ãmãQ ãnCÏéËÂB áÑ ãÄå×äÃÂB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ÔäXác ,æUáÂÒâRå»áÆ á½ákåËã® ØãÂCÇå®F áÑ ,æUáÂÒâ{åÒáÆ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ر شب و روز به ياد خودت معمور و آباد گردان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خدمتت پيوسته دارى و اعمالم را مقبول درگاهت گردان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æBjånãÑ CÏêÃâ¾ ÕãjBnåÑF áÑ ØãÂCÇå®F áÉÒâ¿áW</a:t>
            </a:r>
            <a:br>
              <a:rPr sz="5400"/>
            </a:b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  ,æBkáÆåoás áÀãXáÆåkãg Øã¶ ØãÂCác áÑ ,æBkãcBÑ</a:t>
            </a:r>
            <a:br>
              <a:rPr sz="5400"/>
            </a:br>
            <a:br>
              <a:rPr sz="5400"/>
            </a:br>
            <a:br>
              <a:rPr sz="54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ا اعمال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گفتارم همه يك جهت براى تو باشد و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الم هميشه در خدمت تو مصروف گرد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ãÐå×áÂH åÌáÆ CÖ ,ØãÂéÒá¯âÆ ãÐå×áÃá® åÌáÆ CÖ Õãkë×ás CÖ</a:t>
            </a:r>
            <a:br>
              <a:rPr sz="6000"/>
            </a:br>
            <a:br>
              <a:rPr sz="25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ØãÂBÒåcF âVåÒá¿áw </a:t>
            </a:r>
            <a:br>
              <a:rPr sz="60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آقاى من ا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تكيه گاهم او است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شكايت احوال خويش به درگاه او بر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c00000"/>
                </a:solidFill>
                <a:latin typeface="Karbala"/>
              </a:rPr>
              <a:t>,ëPán CÖ ëPán CÖ ëPán CÖ</a:t>
            </a:r>
            <a:br>
              <a:rPr sz="7200"/>
            </a:br>
            <a:r>
              <a:rPr b="0" lang="en-GB" sz="72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72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روردگارا پروردگارا پروردگارا</a:t>
            </a: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ÔÃá® åjâkåwB áÑ ,ØãcãnBÒá_ áÀãXáÆåkãg ÔÃá® ëÒáº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3000"/>
            </a:br>
            <a:br>
              <a:rPr sz="3000"/>
            </a:br>
            <a:br>
              <a:rPr sz="3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يرو ده بر انجام خدمتت اعضاى مرا و دلم را برا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Øã¶ ékã`ÂB áØãÂ åSáÎ áÑ ,ØãdãÊBÒá_ ãUáÇÖãqá¯ÂB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ÀãXáÆåkãhãQ ãÁC|ëWßB Øã¶ áÅBÑékÂB áÑ ,áÀãXá×åxág</a:t>
            </a:r>
            <a:br>
              <a:rPr sz="60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زيمت به سويت محكم گردان و به من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شش در ترس و خشيتت و مداومت در پيوستن به خدمتت عطا فرم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áÑ ,áÌå×ã»ãQCétÂB ãÌåÖãjC×áÆ Øã¶ áÀå×áÂH ábáoåsF ÔäXác</a:t>
            </a:r>
            <a:br>
              <a:rPr sz="54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2500"/>
            </a:b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ÔÂH á¹CXåwF áÑ ,áÌåÖãnãjCRâÇÂB Øã¶ áÀå×áÂH áoåsâF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ا تن و جان را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ر ميدانهاى پيشتازان بسويت برانم و در زمره شتابندگان بسويت بشتابم و در صف مشتاقا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éÒâÊâj áÀåËãÆ áÒâÊåjF áÑ ,áÌå×ãºCáXåxâÇÂB Øã¶ áÀãQåoâº</a:t>
            </a:r>
            <a:br>
              <a:rPr sz="25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25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Ìå×ãËãºåÒâÇÂB áUá¶CháÆ áÀá¶CágF áÑ ,áÌå×ã|ãÃåhâÇÂB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2500"/>
            </a:br>
            <a:br>
              <a:rPr sz="2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ربت را جويم و چون نزديك شدن مخلصان به تو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زديك گردم و چون يقين آ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ر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دگان از تو بترسم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906120" cy="636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Ìå×ãËãÆKâÇÂB á°áÆ á½ãnBÒã_ Øã¶ á°ãÇáXå_F áÑ</a:t>
            </a: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در جوار رحمتت با مؤمنان در يكجا گرد آي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ÌáÆ áÑ ,âÍåjãnGá¶ èAÒâtãQ ØãÊájBnF åÌáÆ áÑ éÈâÏäÃÂB</a:t>
            </a:r>
            <a:br>
              <a:rPr sz="25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ã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Ì~~á~tåcF åÌãÆ ØãËåÃá¯å_B áÑ ,âÍåk~ã~¿á¶ ØãÊájC~~~~¾</a:t>
            </a:r>
            <a:br>
              <a:rPr sz="60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يا هر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د مرا خواهد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دش را بخواه و هر </a:t>
            </a:r>
            <a:br>
              <a:rPr sz="4000"/>
            </a:b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ه من مكر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ن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 به مكر خويش دچارش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 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âÀ~~~~ã~XåÏáW ØãXéÂB áPÒâÊêmÂB áØãÂ åoã·å²H éÈâÏäÃÂB</a:t>
            </a:r>
            <a:br>
              <a:rPr sz="6600"/>
            </a:b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 ,áÈá|ã¯ÂB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يا بيامرز برايم آن گناهانى ر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پرده ها را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درد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360" y="-17136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æUáÂãqåËáÆ åÈãÏãQáoåºF  áÑ ,á½ákåËã® æCRå×~ã~|áÊ á½ãkå×ãRá®</a:t>
            </a:r>
            <a:br>
              <a:rPr sz="25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â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CËâÖ Ù âÐéÊI~á¶ ,áÀåÖákáÂ æUá·åÂâp åÈãÏë|ágF áÑ ,áÀåËãÆ</a:t>
            </a:r>
            <a:br>
              <a:rPr sz="60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نصيبم را پيش خود بهتر از ديگر بندگانت قرار ده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منزلتم را نزد خود نزديكتر از ايشان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 و رتبه ام را در پيشگاهت مخصوص تر از ديگران گردا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7252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Ñ ,á½ãjÒâ`ãQ ØãÂ åkâ_ áÑ ,áÀãÃå£á·ãQ éÙH áÀãÂl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ØãËå~«á·åcB áÑ ,á½ãkå`áÇãQ éØáÃá® å¸ã§å®B</a:t>
            </a:r>
            <a:br>
              <a:rPr sz="6000"/>
            </a:br>
            <a:br>
              <a:rPr sz="6000"/>
            </a:b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راست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جز به فضل تو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ى به اين مقام نرسد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جود و بخشش خود به من جود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 و به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جد و بزرگوارى خود بر من توجه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رم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2700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æC`ãÏáÂ á½ãoå¾ãmãQ ØãÊCtãÂ åÄá¯å_B áÑ ,áÀãXáÇåcáoãQ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ãÌåtâdãQ éØáÃá® éÌâÆ áÑ ,æCÇé×áXâÆ áÀëRâdãQ ØãRåÃáº áÑ</a:t>
            </a:r>
            <a:br>
              <a:rPr sz="60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رحمت خود مرا نگهدار و قرار ده زبانم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ا به ذ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ت گويا و دلم را به دوستيت بى قرار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شيدا و با اجابت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يكت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 من منت بنه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360" y="-26028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ØãXéÂáp åoã·å²H áÑ ,ØãWáoå\á® ØãËåÃãºF áÑ ,áÀãXáQC_H</a:t>
            </a:r>
            <a:br>
              <a:rPr sz="25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á</a:t>
            </a:r>
            <a:br>
              <a:rPr sz="25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Ñ ,áÀãWájCRã¯ãQ á½ãjCRã® ÔÃá® áYå×á£áº áÀéÊI~á¶</a:t>
            </a:r>
            <a:br>
              <a:rPr sz="60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لغزشم را ناديده گير و گناهم را بيامرز زير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تو خود بندگانت را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 پرستش خويش فرمان داد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UáQC_ßB âÈâÏáÂ áYåËãÇá¢ áÑ ,áÀãMC®âkãQ åÈâÏáWåoáÆF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دع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ن به درگاهت ماءمور ساختى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اجابت دعايشان را ضمان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CÖ áÀå×áÂH áÑ ,ØãÏå_áÑ âYåRá|áÊ ëPán CÖ áÀå×áÂI~á¶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س اى پروردگار من به سوى تو روى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خود بداشتم و به درگاه ت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ØãÂ åSã`áXåsB áÀãWéqã¯ãRá¶ ,ÕãkáÖ âVåjákáÆ ëPán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پروردگارم دست حاجت دراز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م پس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 عزتت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عايم ر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90612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ÌãÆ å°á§å»áW Ù áÑ ,áÕCËâÆ ØãËå³ëÃáQ áÑ ,ØãMC®âj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ستجاب فرما و به آرزويم برسان و اميدم را</a:t>
            </a:r>
            <a:r>
              <a:rPr b="1" lang="ar-SA" sz="4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90612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Ñ ëÌã`ÂB éoáw ØãËã·å¾B áÑ ,ØãMC_án áÀãÃå£á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¶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ز فضل خويش قطع منما</a:t>
            </a:r>
            <a:r>
              <a:rPr b="0" lang="en-GB" sz="4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شر دشمنانم را از جن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1760" y="11556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oã·å²H ,C¢ëoÂB á°Öãoás CÖ ,ØãMBkå®F åÌãÆ ãuåÊßB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س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ايت فرما اى خدا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ی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ه سریع از ما </a:t>
            </a:r>
            <a:br>
              <a:rPr sz="4000"/>
            </a:b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اضی می شوی، بیامرز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ى ر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48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,áÈá»ëËÂB âÁãqåËâW ØãXéÂB áPÒâÊêmÂB áØãÂ åoã·å²H éÈâÏäÃÂB</a:t>
            </a:r>
            <a:br>
              <a:rPr sz="6400"/>
            </a:br>
            <a:br>
              <a:rPr sz="64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يا بيامرز برايم آن گناهانى ر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عقاب و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فرها را فرو ريز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1760" y="6048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300" spc="-1" strike="noStrike">
                <a:solidFill>
                  <a:srgbClr val="000099"/>
                </a:solidFill>
                <a:latin typeface="Karbala"/>
              </a:rPr>
              <a:t>,</a:t>
            </a:r>
            <a:r>
              <a:rPr b="1" lang="en-GB" sz="5300" spc="-1" strike="noStrike">
                <a:solidFill>
                  <a:srgbClr val="000099"/>
                </a:solidFill>
                <a:latin typeface="Karbala"/>
              </a:rPr>
              <a:t>âACáxáW CÇãÂ çÁCé¯á¶ áÀéÊIá¶ ,áAC®êkÂB ÙH âÀãÃåÇáÖ Ù åÌáÇãÂ</a:t>
            </a:r>
            <a:br>
              <a:rPr sz="5300"/>
            </a:br>
            <a:br>
              <a:rPr sz="60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جز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عا چيزى ندارد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راستى تو هر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چه را بخواهى انجام ده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çAC~~·ãw âÍâoå¾ãl áÑ ,çABÑáj âÐâÇåsB åÌáÆ CÖ 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2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نامش دوا است و يادش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فاء است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-17136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ãÐãÂCáÆ ârFán åÌáÆ åÈácånãB ,æÔáËã² âÐâXá®Cá¦ áÑ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âAC¿âRÂB âÐ~âcÚ~ã~s áÑ ,âAC_äoÂB</a:t>
            </a:r>
            <a:br>
              <a:rPr sz="60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اعتش توانگرى است ترحم فرما بر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رمايه اش اميد و ساز و برگش گريه و زارى اس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,ãÈá»ëËÂB á°ã¶Báj CÖ ,ãÈá¯ëËÂB á´ãQCs CÖ</a:t>
            </a:r>
            <a:br>
              <a:rPr sz="6600"/>
            </a:br>
            <a:br>
              <a:rPr sz="6600"/>
            </a:br>
            <a:br>
              <a:rPr sz="6600"/>
            </a:br>
            <a:br>
              <a:rPr sz="48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مام دهنده نعمتها و اى برطرف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نده گرفتاريه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90612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æCÇãÂC® CÖ ,ãÈáÃê~«ÂB Øã¶ áÌå×ãxãcåÒáXåtâÇÂB ánåÒâÊ CÖ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روشنى وحشت زدگان در تاريكيها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،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ى دانا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èkéÇádâÆ ãÁD áÑ èk~~éÇádâÆ ÔÃá® ëÄá{ ,âÈéÃá¯âÖ Ù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ى معلم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،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درود فرست بر محمد و آل محم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-24300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,âÐâÃåÎF áY~å~ÊF CÆ ØãQ åÄá¯å¶B áÑ</a:t>
            </a:r>
            <a:br>
              <a:rPr sz="66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انجام ده درباره من آنچه ر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تو شايسته آن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-360" y="-24300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ãUéÇ~~ã~MÛB áÑ ãÐ~ãÂåÒ~â~sán Ô~Ãá® âÐäÃÂB ÔéÃá{ áÑ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.æBo×ã\~~á~¾ æCÇ×ãÃ~~åtáW áÈéÃ~~~ás áÑ ,ãÐãÃåÎF åÌãÆ Ìå×ãÆC×áÇÂB</a:t>
            </a:r>
            <a:br>
              <a:rPr sz="54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درود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 بر پيامبر و پيشوايان با بر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ز خاندانش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سلام فراوا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2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Èá¯ëËÂB âoë×á³âW Ø~~~ã~XéÂB áPÒâÊêmÂB áØãÂ åoã·å²H éÈâÏäÃÂB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يا بيامرز برايم آن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گناهانى ر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نعمت ها را تغيير دهد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72520" y="56484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AC®êkÂB âuãRådáW ØãXéÂB áPÒâÊêmÂB áØãÂ åoã·å²H</a:t>
            </a:r>
            <a:r>
              <a:rPr b="1" lang="fa-IR" sz="6000" spc="-1" strike="noStrike">
                <a:solidFill>
                  <a:srgbClr val="000099"/>
                </a:solidFill>
                <a:latin typeface="Karbala"/>
                <a:ea typeface="Arial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ÈâÏäÃÂB</a:t>
            </a:r>
            <a:br>
              <a:rPr sz="6000"/>
            </a:br>
            <a:br>
              <a:rPr sz="66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يا بيامرز برايم آن گناهانى ر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ز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جابت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عا جلوگير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د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160200" y="188640"/>
            <a:ext cx="990576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AÚáRÂB âÁãqåËâW ØãXéÂB áPÒâÊêmÂB áØãÂ åoã·å²H éÈâÏäÃÂB</a:t>
            </a:r>
            <a:br>
              <a:rPr sz="6000"/>
            </a:br>
            <a:br>
              <a:rPr sz="6600"/>
            </a:br>
            <a:br>
              <a:rPr sz="6600"/>
            </a:br>
            <a:br>
              <a:rPr sz="2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يا بيامرز برايم آن گناهانى ر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لا نازل آند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99"/>
                </a:solidFill>
                <a:latin typeface="Karbala"/>
              </a:rPr>
              <a:t>ãÈ~~~~~~~~×ãcéoÂB ãÌáÇåcéoÂB ãÐéÃÂB ãÈåtãQ</a:t>
            </a:r>
            <a:br>
              <a:rPr sz="7200"/>
            </a:br>
            <a:br>
              <a:rPr sz="7200"/>
            </a:br>
            <a:r>
              <a:rPr b="1" lang="fa-IR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 نام خداوند بخشنده مهربان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94840" y="42084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éÄâ¾ áÑ ,âÐâXåRáÊålF èSåÊál éÄâ¾ áØãÂ åoã·å²H éÈâÏäÃÂB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CÏ~~~~â~WG§~ågF èUN×ã§ág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يا بيامرز برايم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ر گناه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ه ام و هر خطاي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ز من سر زده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,á½ãoå¾ãmãQ áÀ×áÂH âPéoá»áWF ØëÊH éÈâÏäÃÂB</a:t>
            </a:r>
            <a:br>
              <a:rPr sz="6600"/>
            </a:br>
            <a:br>
              <a:rPr sz="66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يا من به سوى تو تقرب جويم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وسيله ذ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 تو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,áÀãtå·áÊ ÔÂH áÀãQ â°ã·åxáXåsF áÑ</a:t>
            </a:r>
            <a:br>
              <a:rPr sz="6600"/>
            </a:br>
            <a:br>
              <a:rPr sz="66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شفيع آورم بدرگاهت خودت را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4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ÀãQåoâº åÌãÆ ØãËá×ãÊåkâW åÉF á½ãjÒâ`ãQ áÀâÂGåsF áÑ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جود و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مت از تو مى خواهم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مرا به مقام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رب خويش نزديك سازى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1760" y="49320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,á½áoå¿âw ØËá®ãpÒâW åÉF áÑ</a:t>
            </a:r>
            <a:br>
              <a:rPr sz="6600"/>
            </a:br>
            <a:br>
              <a:rPr sz="3000"/>
            </a:b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 .á½áoå¾ãl ØËáÇãÏåÃâW åÉF áÑ</a:t>
            </a: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سپاسگذاريت را بر من روز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ى و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ذ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 خود را به من الهام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ى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94840" y="56484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è°ã¢Cg áÁBKâs áÀâÂGåsF ØëÊH  éÈâÏäÃÂB</a:t>
            </a:r>
            <a:br>
              <a:rPr sz="6600"/>
            </a:br>
            <a:br>
              <a:rPr sz="2000"/>
            </a:b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 ,è°ãwCg</a:t>
            </a:r>
            <a:r>
              <a:rPr b="1" lang="fa-IR" sz="6600" spc="-1" strike="noStrike">
                <a:solidFill>
                  <a:srgbClr val="000099"/>
                </a:solidFill>
                <a:latin typeface="Karbala"/>
                <a:ea typeface="Arial"/>
              </a:rPr>
              <a:t>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èÄëÂámáXâÆ</a:t>
            </a:r>
            <a:r>
              <a:rPr b="1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2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يا از تو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رخواست م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م درخواست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خص فروتن خوار ترسان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ØËáÃá¯å`áW áÑ ,ØËáÇácåoáW áÑ ØËádãÆCátâW åÉF</a:t>
            </a:r>
            <a:br>
              <a:rPr sz="6000"/>
            </a:br>
            <a:br>
              <a:rPr sz="25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æC¯ãÊCº æC×ã¢Bán áÀãÇåtã»ãQ</a:t>
            </a:r>
            <a:br>
              <a:rPr sz="6000"/>
            </a:br>
            <a:br>
              <a:rPr sz="6000"/>
            </a:br>
            <a:br>
              <a:rPr sz="24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 من آسان گيرى و به من رحم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ى و مرا به آنچه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ايم قسم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ه اى راضى و قانعم سازى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.æC¯ã¢BÒáXâÆ ãÁBáÒåcÛB ã°×ãÇá_ Ø¶ áÑ</a:t>
            </a:r>
            <a:br>
              <a:rPr sz="6000"/>
            </a:br>
            <a:br>
              <a:rPr sz="6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در تمام حالات فروتنم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44520" y="1212840"/>
            <a:ext cx="9245520" cy="49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,âÐâXáºC¶ åVékáXåwH åÌáÆ áÁBKâs áÀâÂGåsF áÑ éÈâÏäÃÂB</a:t>
            </a:r>
            <a:br>
              <a:rPr sz="5400"/>
            </a:br>
            <a:br>
              <a:rPr sz="5400"/>
            </a:br>
            <a:br>
              <a:rPr sz="5400"/>
            </a:br>
            <a:r>
              <a:rPr b="1" lang="en-GB" sz="54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54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يا از تو درخواس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م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رخواس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سخت فقير و بى چيز شده</a:t>
            </a:r>
            <a:br>
              <a:rPr sz="46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480" y="40464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Èâ«á® áÑ âÐáXá_Cc ãkãMBk~~~~~~~éxÂB ákåËã® áÀãQ áÁáqåÊF áÑ </a:t>
            </a:r>
            <a:br>
              <a:rPr sz="2000"/>
            </a:br>
            <a:r>
              <a:rPr b="1" lang="en-GB" sz="20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2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.âÐâXáRå²án  á½ákåËã® CÇ×¶</a:t>
            </a:r>
            <a:br>
              <a:rPr sz="6000"/>
            </a:br>
            <a:br>
              <a:rPr sz="6000"/>
            </a:br>
            <a:br>
              <a:rPr sz="2400"/>
            </a:br>
            <a:r>
              <a:rPr b="1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fa-IR" sz="6000" spc="-1" strike="noStrike">
                <a:solidFill>
                  <a:srgbClr val="000000"/>
                </a:solidFill>
                <a:latin typeface="Karbala"/>
                <a:ea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خواسته اش را هنگام سختيها پيش تو آورده و اميدش بدانچه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زد تو است بسيار بزرگ است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659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åYá¯ãsáÑ ØXéÂB áÀãXáÇåcáoãQ áÀâÂGsF ØëÊHéÈâÏäÃÂB</a:t>
            </a:r>
            <a:br>
              <a:rPr sz="6600"/>
            </a:br>
            <a:r>
              <a:rPr b="1" lang="en-GB" sz="20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2000"/>
            </a:b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 ,AØáw éÄâ¾</a:t>
            </a:r>
            <a:br>
              <a:rPr sz="6600"/>
            </a:br>
            <a:br>
              <a:rPr sz="6000"/>
            </a:br>
            <a:br>
              <a:rPr sz="32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يا من از تو مى خواهم بحق آن رحمت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مه چيز را فرا گرفت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0160" y="636120"/>
            <a:ext cx="941040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ÀâÊC¿áÆ Úá® áÑ ,áÀâÊC§åÃâs áÈâ«á® éÈâÏäÃÂB</a:t>
            </a:r>
            <a:br>
              <a:rPr sz="6600"/>
            </a:br>
            <a:br>
              <a:rPr sz="6600"/>
            </a:br>
            <a:br>
              <a:rPr sz="6600"/>
            </a:b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يا سلطنت و پادشاهيت بس بزرگ </a:t>
            </a:r>
            <a:br>
              <a:rPr sz="4400"/>
            </a:b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مقامت بسى بلند است</a:t>
            </a:r>
            <a:br>
              <a:rPr sz="4400"/>
            </a:br>
            <a:br>
              <a:rPr sz="56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914400"/>
            <a:ext cx="9410760" cy="49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SáÃá² áÑ ,á½âoåÆF áoáÏáª áÑ ,á½âoå¿áÆ áØã·ág áÑ</a:t>
            </a:r>
            <a:br>
              <a:rPr sz="5400"/>
            </a:br>
            <a:r>
              <a:rPr b="1" lang="en-GB" sz="54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5400"/>
            </a:br>
            <a:br>
              <a:rPr sz="5400"/>
            </a:br>
            <a:r>
              <a:rPr b="1" lang="ar-SA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كر و تدبيرت در </a:t>
            </a:r>
            <a:r>
              <a:rPr b="1" lang="fa-IR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رها پنهان و امر و </a:t>
            </a:r>
            <a:br>
              <a:rPr sz="4600"/>
            </a:br>
            <a:r>
              <a:rPr b="1" lang="ar-SA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رمانت</a:t>
            </a:r>
            <a:r>
              <a:rPr b="1" lang="fa-IR" sz="4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آشكار است</a:t>
            </a:r>
            <a:br>
              <a:rPr sz="4600"/>
            </a:br>
            <a:br>
              <a:rPr sz="4600"/>
            </a:b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âÌã¿åÇâÖ Ù áÑ ,áÀâWánåkâº åVáoá_ áÑ ,á½âoåÏáº</a:t>
            </a:r>
            <a:br>
              <a:rPr sz="6400"/>
            </a:br>
            <a:r>
              <a:rPr b="1" lang="en-GB" sz="20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400"/>
            </a:b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.áÀãXáÆÒâ¿âc åÌãÆ ânBáoã·ÂB</a:t>
            </a:r>
            <a:br>
              <a:rPr sz="60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هرت غالب و قدرت و نيرويت نافذ است و </a:t>
            </a:r>
            <a:br>
              <a:rPr sz="50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گريز از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ت حكومت تو ممكن نيست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Ù áÑ ,æBoã¶C² ØãQÒâÊâmãÂ âkã_F Ù ÈâÏäÃÂBé</a:t>
            </a:r>
            <a:br>
              <a:rPr sz="6000"/>
            </a:br>
            <a:br>
              <a:rPr sz="2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æBoãWCs ØãdãMCRá»ãÂ</a:t>
            </a: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br>
              <a:rPr sz="3600"/>
            </a:br>
            <a:br>
              <a:rPr sz="36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يا نيابم براى گناهانم آمرزنده اى و نه براى 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رهاى زشتم پرده پوشى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17136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ãÌátádÂCãQ ãe~~~~×ãRá»ÂB ØãÃáÇá® åÌãÆ èAØáxãÂ Ù áÑ</a:t>
            </a:r>
            <a:br>
              <a:rPr sz="6400"/>
            </a:br>
            <a:br>
              <a:rPr sz="2500"/>
            </a:b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,á½áoå×á² æÙëkáRâÆ</a:t>
            </a:r>
            <a:br>
              <a:rPr sz="6400"/>
            </a:br>
            <a:br>
              <a:rPr sz="60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نه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ک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ى را 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عمل زشت مرا به 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ر نيك </a:t>
            </a:r>
            <a:br>
              <a:rPr sz="50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بديل 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د جز تو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،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.á½ãkåÇádãQ áÑ áÀáÊCdåRâs ,áYåÊF ÙH áÐÂH Ù</a:t>
            </a:r>
            <a:br>
              <a:rPr sz="6000"/>
            </a:br>
            <a:br>
              <a:rPr sz="60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يست معبودى جز تو</a:t>
            </a:r>
            <a:br>
              <a:rPr sz="50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زهى تو و به حمد تو مشغولم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7200" spc="-1" strike="noStrike">
                <a:solidFill>
                  <a:srgbClr val="000099"/>
                </a:solidFill>
                <a:latin typeface="Karbala"/>
              </a:rPr>
              <a:t>,ØãÃåÏá`ãQ âVFéoá`áW áÑ</a:t>
            </a:r>
            <a:r>
              <a:rPr b="1" lang="fa-IR" sz="7200" spc="-1" strike="noStrike">
                <a:solidFill>
                  <a:srgbClr val="000099"/>
                </a:solidFill>
                <a:latin typeface="Karbala"/>
                <a:ea typeface="Arial"/>
              </a:rPr>
              <a:t> </a:t>
            </a: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,Ø~~ãtå·áÊ âYåÇáÃáª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 به خويشتن ستم 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م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در اثر نادانيم دليرى 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م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ØãÂ á½ãoå¾ãl ãÈÖãkáº ÔÂH âYåËá¿ás áÑ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.éØáÃá® áÀëËáÆ áÑ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اينكه هميشه از</a:t>
            </a:r>
            <a:r>
              <a:rPr b="1" lang="fa-IR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ديم به ياد من بوده وبر من لطف و بخشش داشتى آسوده خاطر نشستم</a:t>
            </a:r>
            <a:br>
              <a:rPr sz="4500"/>
            </a:b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âÐáWåoáXás èe×ãRáº åÌãÆ åÈá¾ ,áÕÙåÒáÆ éÈ~~~~~~~âÏäÃÂB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خدا اى مولاى من چه بسيار زشتيها 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</a:t>
            </a:r>
            <a:br>
              <a:rPr sz="50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ز من پوشاندى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1760" y="78120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âÐáXåÃáºF ãAÚáRÂB áÌãÆ èbãjCá¶ åÌãÆ åÈá¾ áÑ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fa-IR" sz="6000" spc="-1" strike="noStrike">
                <a:solidFill>
                  <a:srgbClr val="000000"/>
                </a:solidFill>
                <a:latin typeface="Karbala"/>
                <a:cs typeface="Arial"/>
              </a:rPr>
              <a:t>و 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چه بسيار بلاهاى سنگين 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ز من بازگرداندى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836640"/>
            <a:ext cx="9906120" cy="629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áÑ ,AØáw éÄâ¾ CÏãQ áVåoáÏáº ØXéÂB áÀãWéÒâ»ãQ áÑ</a:t>
            </a:r>
            <a:br>
              <a:rPr sz="6400"/>
            </a:br>
            <a:br>
              <a:rPr sz="2000"/>
            </a:b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 ,AØáw êÄâ¾ CÏáÂ éÁál áÑ ,AØáw êÄâ¾ CÏáÂ á°á£ág</a:t>
            </a:r>
            <a:br>
              <a:rPr sz="5400"/>
            </a:br>
            <a:br>
              <a:rPr sz="5400"/>
            </a:br>
            <a:br>
              <a:rPr sz="16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آن نيروي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همه چيز را بوسيله آن مقهور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ويش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مه چيز در برابر آن خاضع و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مه در پيش آن خوار است</a:t>
            </a:r>
            <a:br>
              <a:rPr sz="4000"/>
            </a:br>
            <a:br>
              <a:rPr sz="46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1760" y="1212840"/>
            <a:ext cx="9410760" cy="49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500" spc="-1" strike="noStrike">
                <a:solidFill>
                  <a:srgbClr val="000099"/>
                </a:solidFill>
                <a:latin typeface="Karbala"/>
              </a:rPr>
              <a:t>,âÐáXå¯á¶áj èÍÑâoå¿áÆ åÌãÆ åÈá¾ áÑ ,âÐáXå×áºáÑ ènCá\ã® åÌãÆ åÈá¾ áÑ</a:t>
            </a:r>
            <a:br>
              <a:rPr sz="5500"/>
            </a:br>
            <a:br>
              <a:rPr sz="6000"/>
            </a:br>
            <a:br>
              <a:rPr sz="6000"/>
            </a:b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چه بسيار لغزشها </a:t>
            </a:r>
            <a:r>
              <a:rPr b="1" lang="fa-IR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ز آن نگهم داشتى و چه بسيار ناراحتيها</a:t>
            </a:r>
            <a:r>
              <a:rPr b="1" lang="fa-IR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ک</a:t>
            </a: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ز من دور </a:t>
            </a:r>
            <a:r>
              <a:rPr b="1" lang="fa-IR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ى</a:t>
            </a:r>
            <a:br>
              <a:rPr sz="4500"/>
            </a:b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2520" y="42084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800" spc="-1" strike="noStrike">
                <a:solidFill>
                  <a:srgbClr val="000099"/>
                </a:solidFill>
                <a:latin typeface="Karbala"/>
              </a:rPr>
              <a:t>â æÚåÎF âYåtáÂ èÄ×ãÇá_ èACËá[ åÌãÆ åÈá¾ áÑ </a:t>
            </a:r>
            <a:br>
              <a:rPr sz="58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5800"/>
            </a:br>
            <a:r>
              <a:rPr b="1" lang="en-GB" sz="5800" spc="-1" strike="noStrike">
                <a:solidFill>
                  <a:srgbClr val="000099"/>
                </a:solidFill>
                <a:latin typeface="Karbala"/>
              </a:rPr>
              <a:t>.âÐáWåoáxáÊ ÐáÂ</a:t>
            </a: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5400"/>
            </a:br>
            <a:br>
              <a:rPr sz="5400"/>
            </a:br>
            <a:br>
              <a:rPr sz="5400"/>
            </a:br>
            <a:r>
              <a:rPr b="1" lang="ar-SA" sz="41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چه بسيار مدح و ثناى خوبى </a:t>
            </a:r>
            <a:r>
              <a:rPr b="1" lang="fa-IR" sz="41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1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من شايسته اش نبودم و تو آن را منتشر ساختى</a:t>
            </a:r>
            <a:br>
              <a:rPr sz="4600"/>
            </a:b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00160" y="475920"/>
            <a:ext cx="941040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âAÒâs åØãQ á¦áoå¶F áÑ ,ØãMÚáQ áÈâ«á® éÈâÏäÃÂB</a:t>
            </a:r>
            <a:br>
              <a:rPr sz="5400"/>
            </a:br>
            <a:br>
              <a:rPr sz="2500"/>
            </a:b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,ØãÂCc</a:t>
            </a:r>
            <a:br>
              <a:rPr sz="5400"/>
            </a:br>
            <a:br>
              <a:rPr sz="5400"/>
            </a:br>
            <a:br>
              <a:rPr sz="5400"/>
            </a:br>
            <a:r>
              <a:rPr b="1" lang="ar-SA" sz="41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يا بلاى من</a:t>
            </a:r>
            <a:r>
              <a:rPr b="1" lang="fa-IR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1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سى بزرگ است و </a:t>
            </a:r>
            <a:br>
              <a:rPr sz="4100"/>
            </a:br>
            <a:r>
              <a:rPr b="1" lang="ar-SA" sz="41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دى حالم از حد گذشته</a:t>
            </a:r>
            <a:br>
              <a:rPr sz="4600"/>
            </a:b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-10008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Váká¯áº áÑ ,ØãÂCáÇå®F åØãQ åVáoâ|áº áÑ </a:t>
            </a:r>
            <a:br>
              <a:rPr sz="6000"/>
            </a:br>
            <a:br>
              <a:rPr sz="29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ØãÂÚå²F ØãQ 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800"/>
            </a:b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اعمالم نارسا است و زنجيرهاى </a:t>
            </a:r>
            <a:br>
              <a:rPr sz="4500"/>
            </a:b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لايق مرا خانه نشين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00160" y="304920"/>
            <a:ext cx="941040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Ñ ,ØãÂCÆD âkå¯âQ Øã¯å·áÊ åÌá® ØãËátáRác áÑ</a:t>
            </a:r>
            <a:br>
              <a:rPr sz="6000"/>
            </a:br>
            <a:br>
              <a:rPr sz="6000"/>
            </a:br>
            <a:br>
              <a:rPr sz="2500"/>
            </a:br>
            <a:br>
              <a:rPr sz="4500"/>
            </a:br>
            <a:r>
              <a:rPr b="0" lang="en-GB" sz="45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آرزوهاى دور و دراز مرا از </a:t>
            </a:r>
            <a:br>
              <a:rPr sz="4500"/>
            </a:b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سيدن به منافعم بازداشته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90612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Øãtå·áÊ áÑ ,CÎãnÑâoâ³ãQ C×åÊêkÂB åØãËåXá®ákág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ØãÂC§ãÆ áÑ ,CÏãXáÊC×ãhãQ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دنيا با ظواهر فريبنده اش مرا گول زد و نفسم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وسيله جنايتش و به مسامحه گذراندم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1760" y="18900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Ù åÉF ,áÀãWéqã¯ãQ áÀâÃáNåsGá¶ ,Õãkë×~~~á~s CÖ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ØãÂCá¯ã¶ áÑ ØãÃáÇá® âAÒâs ØãMC®âj áÀåËá® áSâ`ådáÖ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آقاى من پس از تو مى خواهم به عزتت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دى رفتار و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ار من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عايم را از اجابتت جلوگيرى نكند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1760" y="18900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</a:t>
            </a:r>
            <a:r>
              <a:rPr b="1" lang="fa-IR" sz="6000" spc="-1" strike="noStrike">
                <a:solidFill>
                  <a:srgbClr val="000099"/>
                </a:solidFill>
                <a:latin typeface="Karbala"/>
                <a:ea typeface="Arial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Yå¯áÃé¦B CÆ ëØã·áhãQ ØãËådá£å·áW Ù áÑ</a:t>
            </a:r>
            <a:br>
              <a:rPr sz="6000"/>
            </a:br>
            <a:r>
              <a:rPr b="0" lang="en-GB" sz="25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Õëoãs</a:t>
            </a:r>
            <a:r>
              <a:rPr b="1" lang="fa-IR" sz="6000" spc="-1" strike="noStrike">
                <a:solidFill>
                  <a:srgbClr val="000099"/>
                </a:solidFill>
                <a:latin typeface="Karbala"/>
                <a:ea typeface="Arial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ÌãÆ ãÐå×áÃá® 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رسوا نكنى مرا به آنچه از اسرار پنهانى من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160200" y="0"/>
            <a:ext cx="990576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âÐâXåÃãÇá®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CÆ ÔáÃá® ãUáQÒâ»â¯ÂCãQ ØãËåÃã_Cá¯âW Ù áÑ</a:t>
            </a:r>
            <a:br>
              <a:rPr sz="5400"/>
            </a:b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 ,ØãWáAC~~~~~sH áÑ ØãÃå¯ã¶ ãAÒâs åÌ~~~ã~Æ ,ØãWBÒáÃág Øã¶ </a:t>
            </a:r>
            <a:br>
              <a:rPr sz="60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شتاب نكنى در عقوبتم براى رفتار بد و </a:t>
            </a:r>
            <a:r>
              <a:rPr b="1" lang="fa-IR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رهاى بدى </a:t>
            </a:r>
            <a:r>
              <a:rPr b="1" lang="fa-IR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در خلوت</a:t>
            </a:r>
            <a:r>
              <a:rPr b="1" lang="fa-IR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جام دادم</a:t>
            </a:r>
            <a:br>
              <a:rPr sz="4500"/>
            </a:b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ØãXáÂCÏá_ áÑ Øã§Öãoå·áW ãÅBÑáj áÑ </a:t>
            </a:r>
            <a:br>
              <a:rPr sz="6000"/>
            </a:br>
            <a:r>
              <a:rPr b="1" lang="en-GB" sz="29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ØãXáÃå·á²  áÑ ØãWBÒáÏ~~~á~w ãTáoå\á¾ áÑ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ff3300"/>
                </a:solidFill>
                <a:latin typeface="Karbala"/>
              </a:rPr>
              <a:t> </a:t>
            </a:r>
            <a:br>
              <a:rPr sz="6000"/>
            </a:br>
            <a:br>
              <a:rPr sz="5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ادامه دادنم به تقصير و نادانى و زيادى شهوت رانى و بى خبريم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,èAØáw éÄâ¾ CÏãQ áYåRáÃá²  Ø~~ãXéÂB áÀãWÑâoáRá`ãQ áÑ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جبروت تو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وسيله آن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چيره گشت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 هر چي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54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ãÁBáÒåcÛB ëÄâ¾ Øã¶ ØãÂ áÀãWéqã¯ãQ éÈâÏäÃÂB ãÌâ¾ áÑ</a:t>
            </a:r>
            <a:br>
              <a:rPr sz="54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54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æC¶Òâ§á® ãnÒâÆÛB ã°~~~×ãÇá_ Øã¶ éØáÃá® áÑ ,æC¶ÑâJán</a:t>
            </a:r>
            <a:br>
              <a:rPr sz="5400"/>
            </a:br>
            <a:br>
              <a:rPr sz="54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r>
              <a:rPr b="1" lang="ar-SA" sz="41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خدايا به عزتت سوگند </a:t>
            </a:r>
            <a:r>
              <a:rPr b="1" lang="fa-IR" sz="41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1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در تمام احوال نسبت به من مهربان باش و در تمام</a:t>
            </a:r>
            <a:r>
              <a:rPr b="1" lang="fa-IR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1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مور بر من </a:t>
            </a:r>
            <a:br>
              <a:rPr sz="4100"/>
            </a:br>
            <a:r>
              <a:rPr b="1" lang="ar-SA" sz="41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طوفت فرما</a:t>
            </a:r>
            <a:br>
              <a:rPr sz="4600"/>
            </a:br>
            <a:br>
              <a:rPr sz="4600"/>
            </a:b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0" lang="en-GB" sz="5400" spc="-1" strike="noStrike">
                <a:solidFill>
                  <a:srgbClr val="000000"/>
                </a:solidFill>
                <a:latin typeface="Karbala"/>
              </a:rPr>
              <a:t>á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¸~~åxá¾ âÐâÂGåsF á½âoå×á² ØãÂ åÌáÆ ØëQán áÑ ØãÏÂH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ÕãoåÆF Øã¶ áo~~~~~á«éËÂB áÑ ,Õëoâ¢</a:t>
            </a:r>
            <a:br>
              <a:rPr sz="5400"/>
            </a:br>
            <a:br>
              <a:rPr sz="5400"/>
            </a:br>
            <a:br>
              <a:rPr sz="5400"/>
            </a:br>
            <a:br>
              <a:rPr sz="500"/>
            </a:br>
            <a:r>
              <a:rPr b="1" lang="ar-SA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معبود من و اى پروردگار من جز تو </a:t>
            </a:r>
            <a:br>
              <a:rPr sz="4600"/>
            </a:br>
            <a:r>
              <a:rPr b="1" lang="fa-IR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</a:t>
            </a:r>
            <a:r>
              <a:rPr b="1" lang="fa-IR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سی </a:t>
            </a:r>
            <a:r>
              <a:rPr b="1" lang="ar-SA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ا دارم </a:t>
            </a:r>
            <a:r>
              <a:rPr b="1" lang="fa-IR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رفع گرفتارى</a:t>
            </a:r>
            <a:r>
              <a:rPr b="1" lang="fa-IR" sz="4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توجه در </a:t>
            </a:r>
            <a:r>
              <a:rPr b="1" lang="fa-IR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رم را از او درخواست آنم</a:t>
            </a:r>
            <a:br>
              <a:rPr sz="4600"/>
            </a:b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9484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âYå¯áRéWH æCÇå¿âc éØáÃá® áYåÖáoå_F áÕÙåÒáÆ áÑ ØãÏÂH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Øãtå·áÊ ÓáÒáÎ ãÐ×ã¶</a:t>
            </a:r>
            <a:br>
              <a:rPr sz="6000"/>
            </a:br>
            <a:br>
              <a:rPr sz="6000"/>
            </a:br>
            <a:r>
              <a:rPr b="0" lang="fa-IR" sz="4200" spc="-1" strike="noStrike">
                <a:solidFill>
                  <a:srgbClr val="000000"/>
                </a:solidFill>
                <a:latin typeface="Karbala"/>
                <a:cs typeface="Arial"/>
              </a:rPr>
              <a:t>ا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ى خداى من و اى مولاى من تو بر من حكمى را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رر داشت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در اجراى آن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يروى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واى نفسم را آردم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åÌ~~~ãÆ ãÐ×ã¶ årãoáXåcF åÈáÂ áÑ</a:t>
            </a:r>
            <a:br>
              <a:rPr sz="6600"/>
            </a:b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 ,ÕêÑâk~~á~® ãÌ×ãÖåqáW</a:t>
            </a:r>
            <a:br>
              <a:rPr sz="6600"/>
            </a:br>
            <a:br>
              <a:rPr sz="6600"/>
            </a:br>
            <a:br>
              <a:rPr sz="54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از فريبكارى دشمنم در اين باره نهراسيدم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ÀãÂál ÔáÃá® âÍáká¯~~~~åsF áÑ ÓáÒåÎF CÇãQ ØãÊéoá³á¶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âAC£á»ÂB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س او هم طبق دلخواه خويش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گولم زد و </a:t>
            </a:r>
            <a:br>
              <a:rPr sz="50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ضا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قدر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94840" y="11556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¤å¯áQ áÀãÂál åÌãÆ éØáÃá® Óáoá_ CÇãQ âVåpáÑC`áXá¶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½ãoãÆBáÑF á¤å¯áQ âYå·áÂCág áÑ ,á½ãjÑâkâc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ا او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ك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 و در اثر همين ماجراى شوم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ر سرم آمد نسبت به پاره ا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ز حدود و احكامت تجاوز آردم و در برخى از دستوراتت راه مخالفت را پيمود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-38736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6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5600" spc="-1" strike="noStrike">
                <a:solidFill>
                  <a:srgbClr val="000099"/>
                </a:solidFill>
                <a:latin typeface="Karbala"/>
              </a:rPr>
              <a:t>áUé`âc Ù áÑ áÀãÂál ã°×ãÇá_ Øã¶ éØáÃá® âUé`âdÂB áÀáÃá¶ </a:t>
            </a:r>
            <a:br>
              <a:rPr sz="5600"/>
            </a:br>
            <a:r>
              <a:rPr b="1" lang="en-GB" sz="5600" spc="-1" strike="noStrike">
                <a:solidFill>
                  <a:srgbClr val="000099"/>
                </a:solidFill>
                <a:latin typeface="Karbala"/>
              </a:rPr>
              <a:t> ,á½âJC£áº ãÐ×ã¶ éØáÃá® Óáoá_ CÇ×ã¶ ØãÂ</a:t>
            </a:r>
            <a:br>
              <a:rPr sz="5600"/>
            </a:br>
            <a:br>
              <a:rPr sz="5400"/>
            </a:br>
            <a:br>
              <a:rPr sz="6000"/>
            </a:br>
            <a:br>
              <a:rPr sz="5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س در تمام آنچه پيش آمده تو را ستايش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ى آنم و ا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ون از حكم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درباره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فر من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جارى گشته و قضا و آزمايش تو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1760" y="78120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½âJÚáQ áÑ áÀâÇå¿âc ØãËáÆáqåÂF áÑ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fa-IR" sz="6000" spc="-1" strike="noStrike">
                <a:solidFill>
                  <a:srgbClr val="000099"/>
                </a:solidFill>
                <a:latin typeface="Karbala"/>
                <a:ea typeface="Arial"/>
              </a:rPr>
              <a:t> </a:t>
            </a:r>
            <a:r>
              <a:rPr b="1" lang="ar-SA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 بدان ملزم ساخته</a:t>
            </a:r>
            <a:r>
              <a:rPr b="0" lang="fa-IR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جت و برهانى ندارم</a:t>
            </a:r>
            <a:br>
              <a:rPr sz="4600"/>
            </a:br>
            <a:br>
              <a:rPr sz="6000"/>
            </a:b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Ñ Õão×ã|å»áW ákå¯áQ ØãÏÂH CÖ áÀâXå×áWF åkáº áÑ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æCÆãjCáÊ æBnãmáXå¯âÆ ,Øãtå·áÊ ÔáÃá® Øã¶BáoåsH</a:t>
            </a: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اينك اى معبود من در حالى به درگاهت آمده ام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درباره ات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تاه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ه و بر خود زياده روى</a:t>
            </a:r>
            <a:r>
              <a:rPr b="1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موده</a:t>
            </a:r>
            <a:br>
              <a:rPr sz="4200"/>
            </a:br>
            <a:br>
              <a:rPr sz="4200"/>
            </a:br>
            <a:br>
              <a:rPr sz="6000"/>
            </a:br>
            <a:br>
              <a:rPr sz="5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æBëoã»âÆ ,æCRå×ãËâÆ ,æBoã·å³áXåtâÆ ,æÚ×ã»áXåtâÆ ,æBoãtá¿åËâÆ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ØëËãÆ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áÉCá¾ CéÇãÆ æBéoá·áÆ âkã_F Ù ,æC¶ãoáXå¯âÆ ,æCËã®åmâÆ</a:t>
            </a: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پشيمان و دل شكسته و پوزش جو و آمرزش طلب و بازگشت آنان و به گناه خويش اقرار و اذعان و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عتراف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ارم و راه گريزى از آنچه</a:t>
            </a:r>
            <a:br>
              <a:rPr sz="6000"/>
            </a:br>
            <a:br>
              <a:rPr sz="5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520" y="33300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,çAØáw CÏáÂ âÅÒâ»áÖÙ ØãXéÂB áÀãWéqã¯ãQ áÑ</a:t>
            </a:r>
            <a:br>
              <a:rPr sz="6400"/>
            </a:br>
            <a:br>
              <a:rPr sz="6400"/>
            </a:br>
            <a:br>
              <a:rPr sz="66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عزت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چيزى در برابرش نه ايست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1108080"/>
            <a:ext cx="9906120" cy="563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,ÕãoåÆF Øã¶ ãÐå×áÂH âÐé_áÒáWF æC®áqå·áÆ Ù áÑ</a:t>
            </a:r>
            <a:br>
              <a:rPr sz="6600"/>
            </a:br>
            <a:br>
              <a:rPr sz="6600"/>
            </a:br>
            <a:br>
              <a:rPr sz="66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ز من سر زده نيابم و پناهگاه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دان رو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آورم در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ر خويش ندارم</a:t>
            </a:r>
            <a:br>
              <a:rPr sz="66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Øã¶ áÕCéÖH áÀãÂCágåjH áÑ ,Õãnåmâ® áÀãÂÒâRáº áoå×á²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.áÀãXáÇåcán åÌãÆ èUá¯ás</a:t>
            </a: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جز اينكه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و عذرم بپذيرى و مرا در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راخناى رحمتت درآورى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Õëoâ¢ áTékãw åÈácånB áÑ ,Õãnåmâ® åÄáRåºCá¶ éÈâÏäÃÂB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ØãºC[ãÑ ëkáw åÌãÆ ØãËé¿â¶ áÑ</a:t>
            </a: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س اى خداى من عذرم بپذير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،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ر سخت پريشانيم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حم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 و از بند سخت گناهانم رهائيم ده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9484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Uéºãn áÑ ,ØãÊákáQ á¸å¯á¢ åÈácånB ëPán C~á~Ö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ØãÇå«á® áUéºãj áÑ ,ÕãkåÃã_</a:t>
            </a: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پروردگار من بر ناتوانى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دنم و ناز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ى پوست تنم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اريكى استخوانم رحم آن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Ñ ØãXá×ãQåoáW áÑ Õãoå¾ãl áÑ Øã»åÃág FákáQ åÌáÆ C~~Ö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آغاز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ى به آفرينش من و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 ياد من و بپرورشم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-27360"/>
            <a:ext cx="9906120" cy="60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Ñ ,áÀãÆáoá¾ ãABkãXåQãÙ ØãËåRáÎ ,ØãXáÖãmå³áW áÑ ÕëoãQ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ØãQ á½ëoãQ ã¸ãÂCs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احسان و خوراك دادنم ا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ون به همان بزرگوارى و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م نخستت و سابقه احسان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ه من داشتى مرا ببخ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00160" y="43920"/>
            <a:ext cx="941040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ØãQëmá¯âÆ á½BáoâWF ,ØëQán áÑ Õãkë×ás áÑ ØãÏÂH CÖ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عبود من و اى آقاى من و اى پروردگارم آيا تو به راستى چنانى آه مرا به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ãÐå×áÃá® ÓÒá§åÊB CÆákå¯ãQ áÑ ,á½ãk×ãcåÒáW ákå¯áQ á½ãnCáËãQ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4000"/>
            </a:br>
            <a:br>
              <a:rPr sz="6000"/>
            </a:b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آتش عذاب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ى</a:t>
            </a:r>
            <a:r>
              <a:rPr b="1" lang="en-GB" sz="42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س از اينكه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 يگانگيت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252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ÌãÆ ØãÊCtãÂ ãÐãQ áaãÏáÂ áÑ ,áÀãXá¶ãoå¯áÆ åÌãÆ ØRåÃáº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قرار دارم و دلم به نور معرفتت آباد گشته و زبانم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90612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Ñ ,áÀëRâc  åÌãÆ Õão×ãÇá¢ âÍáká»áXå®B áÑ ,á½ãoå¾ãl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 ذ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 تو گويا شده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هادم به دوستى تو پيوند شده و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252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,èAØáw éÄâ¾ åVÜáÆ Ø~~~~~~ãXéÂB áÀãXáÇá«á¯ãQ áÑ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آن عظمت و بزرگي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پر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ه هر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چيز ر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æC¯ã¢Cg ,ØãMC®âj áÑ Øã¶BoãX®B ã¹åkã{ ákå¯áQ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25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ÀáXé×ãQÒâQâoãÂ</a:t>
            </a:r>
            <a:br>
              <a:rPr sz="6000"/>
            </a:br>
            <a:br>
              <a:rPr sz="6000"/>
            </a:b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س از اعتراف صادقانه و دعاى خاضعانه ام به </a:t>
            </a:r>
            <a:br>
              <a:rPr sz="4200"/>
            </a:b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ام بنده پرورى و ربوبيتت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ÌáÆ á°ë×á£âW åÉF åÌãÆ âÅáoå¾F áY~~å~ÊF ,áVCÏå×áÎ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âÐáXå×éQán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و بزرگوارتر از آن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ز نظر دور دارى </a:t>
            </a:r>
            <a:br>
              <a:rPr sz="4200"/>
            </a:b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ى را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خود پروريده اى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,âÐ~~~á~XåÖáÑD ÌáÆ ájëoáxâW åÑF ,âÐáXå×áÊåjF åÌáÆ ákë¯áRâW åÑF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ا دور گردان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ى را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خود نزديكش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ه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24300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Ñ âÐáXå×á·á¾ åÌáÆ ãAÚáRÂB ÔáÂH áÈëÃátâW åÑF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âÐáXåÇãcán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ا تسليم بلا و گرفتار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ى را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خود سرپرست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ه و به لطف پروريده اى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-31608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5500" spc="-1" strike="noStrike">
                <a:solidFill>
                  <a:srgbClr val="000099"/>
                </a:solidFill>
                <a:latin typeface="Karbala"/>
              </a:rPr>
              <a:t>,áÕÙåÒáÆ áÑ ØãÏÂH áÑ Õãkë×ás CÖ Õãoå¯ãw áYå×áÂáÑ</a:t>
            </a:r>
            <a:br>
              <a:rPr sz="5500"/>
            </a:br>
            <a:br>
              <a:rPr sz="2500"/>
            </a:br>
            <a:r>
              <a:rPr b="1" lang="en-GB" sz="5500" spc="-1" strike="noStrike">
                <a:solidFill>
                  <a:srgbClr val="000099"/>
                </a:solidFill>
                <a:latin typeface="Karbala"/>
              </a:rPr>
              <a:t> áÀãXáÇá«á¯ãÂ åVéo~~á~g èÍÒ~~â_âÑ ÔÃá® ánCéËÂB â¨ëÃátâWF</a:t>
            </a:r>
            <a:br>
              <a:rPr sz="6000"/>
            </a:br>
            <a:br>
              <a:rPr sz="6000"/>
            </a:br>
            <a:br>
              <a:rPr sz="2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ش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ى دانستم اى آقا و معبود و مولايم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آيا چيره م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ى آتش دوزخ را بر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چهره هاي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در برابر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ظمت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Yá»á§áÊ èÌ~â~tÂF Ô~~~á~Ãá® áÑ ,æTákã_C~~~~~á~s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áÑ ,æUácãjCÆ á½ãoå¿ãxâQ áÑ ,æUáºãjC{ á½ãk×ãcåÒáXãQ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 سجده افتاده و بر زبانهاي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صادقانه به يگانگيت گويا شده و سپاسگزارانه به شكرت باز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ده و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90612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ÔÃá® áÑ ,æUá»ë»ádâÆ áÀãXé×ãÏÂIãQ åYá¶áoáXå®B èPåÒâÃâº ÔáÃá®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3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 دلهاي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ز روى يقين به خدائيت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عتراف آرده اند و بر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72520" y="-8244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VánCá{ ÔéXác ,áÀãQ ãÈåÃã¯ÂB áÌãÆ åVáÒác áoãMCÇá¢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3000"/>
            </a:br>
            <a:br>
              <a:rPr sz="3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ادهاي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لم و معرفتت آنها را فرا گرفته تا به جاي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در برابرت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1760" y="63612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ÔáÂH åYá¯~~~á~s ábãnBáÒá_ ÔÃá® áÑ ,æUá¯ãwCg</a:t>
            </a:r>
            <a:br>
              <a:rPr sz="5400"/>
            </a:br>
            <a:r>
              <a:rPr b="1" lang="en-GB" sz="2100" spc="-1" strike="noStrike">
                <a:solidFill>
                  <a:srgbClr val="000099"/>
                </a:solidFill>
                <a:latin typeface="Karbala"/>
              </a:rPr>
              <a:t> å</a:t>
            </a:r>
            <a:br>
              <a:rPr sz="5400"/>
            </a:b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VánC~~wF áÑ ,æUá¯ãMC¦ á½ãkêRá¯áW ãÉC¦åÑF</a:t>
            </a:r>
            <a:br>
              <a:rPr sz="5400"/>
            </a:br>
            <a:br>
              <a:rPr sz="5400"/>
            </a:br>
            <a:br>
              <a:rPr sz="5400"/>
            </a:br>
            <a:r>
              <a:rPr b="0" lang="en-GB" sz="36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5400"/>
            </a:br>
            <a:r>
              <a:rPr b="1" lang="ar-SA" sz="3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اشع گشته و بر اعضاء و جوارحى </a:t>
            </a:r>
            <a:r>
              <a:rPr b="1" lang="fa-IR" sz="3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3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</a:t>
            </a:r>
            <a:br>
              <a:rPr sz="3800"/>
            </a:br>
            <a:r>
              <a:rPr b="1" lang="ar-SA" sz="3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شتاقانه و با حال اقرار به گناه</a:t>
            </a:r>
            <a:br>
              <a:rPr sz="4600"/>
            </a:br>
            <a:br>
              <a:rPr sz="4600"/>
            </a:b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-27360"/>
            <a:ext cx="990612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500" spc="-1" strike="noStrike">
                <a:solidFill>
                  <a:srgbClr val="000099"/>
                </a:solidFill>
                <a:latin typeface="Karbala"/>
              </a:rPr>
              <a:t>,æUáËã®åmâÆ á½ãnC·å³ãX~å~sCãQ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جوياى آمرزش تو هستن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,èAØáw êÄâ¾ Úá® ÕãméÂB áÀãÊCá§åÃâtãQ áÑ</a:t>
            </a:r>
            <a:br>
              <a:rPr sz="6600"/>
            </a:br>
            <a:br>
              <a:rPr sz="6600"/>
            </a:br>
            <a:br>
              <a:rPr sz="2000"/>
            </a:br>
            <a:br>
              <a:rPr sz="66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آن سلطنت و پادشاهي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ر هر چيز برترى گرفت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1760" y="-2736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ÀãÃå£á·ãQ CÊåoãRågâF Ù áÑ ,áÀãQ êÌé«ÂB Bmá¿Î CÆ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âÈåÖãoá¾ CÖ ,áÀåËá®</a:t>
            </a:r>
            <a:br>
              <a:rPr sz="6000"/>
            </a:br>
            <a:br>
              <a:rPr sz="6000"/>
            </a:br>
            <a:br>
              <a:rPr sz="3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چنين گمانى به تو نيست و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ز فضل تو چنين خبرى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 ما نرسيده اى خدا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يم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31608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åÌãÆ èÄ×ãÃáº åÌá® Øã·å¯á¢ âÈáÃå¯áW áYåÊF áÑ ëPán CÖ</a:t>
            </a:r>
            <a:br>
              <a:rPr sz="5400"/>
            </a:b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 CÏ×ã¶ Õãoå`áÖ CÆ áÑ ,CÏãWCQåÒâ»â® áÑ C×åÊêkÂB ãAÚáQ</a:t>
            </a:r>
            <a:br>
              <a:rPr sz="5400"/>
            </a:br>
            <a:br>
              <a:rPr sz="5400"/>
            </a:br>
            <a:r>
              <a:rPr b="0" lang="en-GB" sz="54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5400"/>
            </a:br>
            <a:br>
              <a:rPr sz="54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پروردگار من و تو ناتوانى مرا در مقابل اند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ى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ز بلاى دنيا و آيفرهاى ناچيز آن و ناملايمات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معمولاً</a:t>
            </a:r>
            <a:br>
              <a:rPr sz="4600"/>
            </a:br>
            <a:br>
              <a:rPr sz="46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47628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çAÚáQ áÀãÂl éÉF ÔÃá® ,CÏãÃåÎF ÔÃá® ãÍãnC¿áÇÂB áÌãÆ</a:t>
            </a:r>
            <a:br>
              <a:rPr sz="5400"/>
            </a:br>
            <a:br>
              <a:rPr sz="1300"/>
            </a:br>
            <a:r>
              <a:rPr b="1" lang="en-GB" sz="13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,âÐâWékâÆ ço×|áº ,âÍJC»áQ ço×ãtáÖ ,âÐâ\å¿áÆ çÄ×ãÃáº ,çÍÑâoå¿áÆ áÑ</a:t>
            </a:r>
            <a:br>
              <a:rPr sz="5400"/>
            </a:br>
            <a:br>
              <a:rPr sz="1300"/>
            </a:b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5400"/>
            </a:br>
            <a:br>
              <a:rPr sz="54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 اهل آن مى رسد مى دانى در صورت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ين بلا و ناراحتى دوامش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 است و دورانش اندك و مدتش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تاه است</a:t>
            </a:r>
            <a:br>
              <a:rPr sz="4600"/>
            </a:br>
            <a:br>
              <a:rPr sz="54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60" y="-26028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ãÄ×ãÃá_ áÑ ,ãTáoãgÝB ãAÚáRãÂ ØãÂCÇãXåcB á¸å×á¿á¶</a:t>
            </a:r>
            <a:br>
              <a:rPr sz="6000"/>
            </a:br>
            <a:r>
              <a:rPr b="1" lang="en-GB" sz="2000" spc="-1" strike="noStrike">
                <a:solidFill>
                  <a:srgbClr val="000099"/>
                </a:solidFill>
                <a:latin typeface="Karbala"/>
              </a:rPr>
              <a:t> â</a:t>
            </a:r>
            <a:br>
              <a:rPr sz="2000"/>
            </a:br>
            <a:r>
              <a:rPr b="1" lang="fa-IR" sz="2000" spc="-1" strike="noStrike">
                <a:solidFill>
                  <a:srgbClr val="000099"/>
                </a:solidFill>
                <a:latin typeface="Karbala"/>
                <a:ea typeface="Arial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âÐâWékâÆ</a:t>
            </a:r>
            <a:r>
              <a:rPr b="1" lang="fa-IR" sz="2000" spc="-1" strike="noStrike">
                <a:solidFill>
                  <a:srgbClr val="000099"/>
                </a:solidFill>
                <a:latin typeface="Karbala"/>
                <a:ea typeface="Arial"/>
              </a:rPr>
              <a:t> 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Òâ§áW çAÚáQ áÒâÎ áÑ ,CÏ×ã¶ ãÍãnC¿áÇÂB ãÒâºâÑ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3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س چگونه تاب تحمل بلاى آخرت و آن ناملايمات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زرگ را در آنجا دارم در صورتى </a:t>
            </a:r>
            <a:br>
              <a:rPr sz="4000"/>
            </a:b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آن بلا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دتش طولان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-11520"/>
            <a:ext cx="990612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Ìá® â¸é·áhâÖ ÙáÑ ,âÐâÆC»áÆ âÅÑâkáÖ áÑ 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دوامش هميشگى است و تخفيفى براى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72520" y="42084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Ñ áÀãRá£á² åÌá® ÙH âÉÒâ¿áÖ Ù âÐéÊÛ ,ãÐãÃåÎF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بتلايان به آن نيست زيرا آن بلا از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شم و</a:t>
            </a:r>
            <a:br>
              <a:rPr sz="4200"/>
            </a:b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âÐáÂ âÅÒâ»áW Ù CÆ BmÎ áÑ ,áÀã§áhás áÑ áÀãÆC»ãXåÊB</a:t>
            </a:r>
            <a:br>
              <a:rPr sz="5400"/>
            </a:b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 ,â¡ånÛB áÑ âVBÑCÇétÂB</a:t>
            </a:r>
            <a:br>
              <a:rPr sz="5400"/>
            </a:br>
            <a:br>
              <a:rPr sz="5400"/>
            </a:br>
            <a:br>
              <a:rPr sz="5400"/>
            </a:br>
            <a:r>
              <a:rPr b="1" lang="ar-SA" sz="3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تقام و غضب تو سرچشمه گرفته و آن هم </a:t>
            </a:r>
            <a:br>
              <a:rPr sz="3800"/>
            </a:br>
            <a:r>
              <a:rPr b="1" lang="ar-SA" sz="3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چيزى است </a:t>
            </a:r>
            <a:r>
              <a:rPr b="1" lang="fa-IR" sz="3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ه</a:t>
            </a:r>
            <a:r>
              <a:rPr b="1" lang="ar-SA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آسمانها</a:t>
            </a:r>
            <a:r>
              <a:rPr b="1" lang="fa-IR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 زمین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اب تحمل آن را ندارند</a:t>
            </a:r>
            <a:br>
              <a:rPr sz="4600"/>
            </a:br>
            <a:br>
              <a:rPr sz="4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22228b"/>
                </a:solidFill>
                <a:latin typeface="Karbala"/>
              </a:rPr>
              <a:t>â</a:t>
            </a:r>
            <a:r>
              <a:rPr b="1" lang="en-GB" sz="6000" spc="-1" strike="noStrike">
                <a:solidFill>
                  <a:srgbClr val="22228b"/>
                </a:solidFill>
                <a:latin typeface="Karbala"/>
              </a:rPr>
              <a:t>¸×ã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¯é£ÂB á½âkåRá® CÊF áÑ ØãQ á¸å×á¿á¶ ,Õãkë×ás CÖ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âÌ×ã¿áXåtâÇÂB ,âÌ×ã¿åtãÇÂB ,âo×ã»ádÂB âÄ×ãÂémÂB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آقاى من تا چه رسد به من بنده ناتوان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،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وار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،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اچيز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،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مستمند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،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بيچاره</a:t>
            </a:r>
            <a:r>
              <a:rPr b="0" lang="en-GB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72520" y="-2736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ë ,áÕÙåÒáÆ áÑ Õãkë×ás áÑ ØëQán áÑ ØãÏÂH CÖ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معبود و پروردگار و آقا و مولاى من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1760" y="4392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CÏåËãÆ CÇãÂ áÑ ,Òâ¿åwF áÀå×áÂH ãnÒâÆÛB</a:t>
            </a:r>
            <a:r>
              <a:rPr b="1" lang="fa-IR" sz="6000" spc="-1" strike="noStrike">
                <a:solidFill>
                  <a:srgbClr val="000099"/>
                </a:solidFill>
                <a:latin typeface="Karbala"/>
                <a:ea typeface="Arial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ÕÛ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Øã¿åQFá</a:t>
            </a:r>
            <a:r>
              <a:rPr b="1" lang="fa-IR" sz="6000" spc="-1" strike="noStrike">
                <a:solidFill>
                  <a:srgbClr val="000099"/>
                </a:solidFill>
                <a:latin typeface="Karbala"/>
                <a:ea typeface="Arial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Ñ</a:t>
            </a:r>
            <a:r>
              <a:rPr b="1" lang="fa-IR" sz="6000" spc="-1" strike="noStrike">
                <a:solidFill>
                  <a:srgbClr val="000099"/>
                </a:solidFill>
                <a:latin typeface="Karbala"/>
                <a:ea typeface="Arial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êaã¢F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ا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اميك از گرفتاريهايم به تو شكايت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م و برا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اميك از آنها شيون و گريه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م ؟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52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,èAØáw ëÄâ¾ ãACËá¶ ák~~~~å¯áQ ØãºCRÂB áÀãÏå_áÒãQ áÑ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ذات پا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پس از نابود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ر چيز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اقى است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-18900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Ñ ãAÚáRÂB ãÁÒâ§ãÂ åÅF ,ãÐãWékãw áÑ ãPBmá¯ÂB ãÈ×ãÂÛ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ãÐãWékâÆ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آيا براى عذاب دردناك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سخت يا براى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لاى طولانى و مديد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áÑ ,áÀãMBkå®F á°áÆ ãVCQÒâ»â¯åÃãÂ ØãËáWåoé×á{ åÌãNáÃá¶</a:t>
            </a:r>
            <a:br>
              <a:rPr sz="5400"/>
            </a:b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 áYåºéoá¶ áÑ ,áÀãMÚáQ ãÄåÎF áÌå×áQ áÑ ØãËå×áQ  áYå¯áÇá_</a:t>
            </a:r>
            <a:r>
              <a:rPr b="0" lang="en-GB" sz="54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5400"/>
            </a:br>
            <a:br>
              <a:rPr sz="5400"/>
            </a:br>
            <a:br>
              <a:rPr sz="5400"/>
            </a:br>
            <a:br>
              <a:rPr sz="3000"/>
            </a:b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س اگر بنا شود مرا بخاطر </a:t>
            </a:r>
            <a:r>
              <a:rPr b="1" lang="fa-IR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فرهايم در زمره</a:t>
            </a:r>
            <a:r>
              <a:rPr b="1" lang="fa-I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3600"/>
            </a:b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شمنانت اندازى و مرا با گرفتاران در بلا و </a:t>
            </a:r>
            <a:br>
              <a:rPr sz="3600"/>
            </a:b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ذابت در يكجا گرد</a:t>
            </a:r>
            <a:r>
              <a:rPr b="1" lang="fa-I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آورى و جدايى اندازى</a:t>
            </a:r>
            <a:br>
              <a:rPr sz="4600"/>
            </a:br>
            <a:br>
              <a:rPr sz="4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00160" y="-27360"/>
            <a:ext cx="941040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CÖ ØãËåRáÏá¶ ,áÀãMC×ãÂåÑF áÑ áÀãMCéRãcF áÌå×áQ áÑ ØãËå×áQ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âVåoáRá{ ,ØëQán áÑ áÕÙåÒáÆ áÑ Õãkë×ás áÑ ØãÏÂH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يان من و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وستانت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گيرم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ى معبود و آقا و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ولا و پروردگارم من صبر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جوییم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72520" y="25992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ÀãºBoã¶ ÔÃá® âoãRå{F á¸å×á¿á¶ ,áÀãQBámá® ÔÃá®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 عذاب تو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ما چگونه بر دورى از تو طاقت آورم</a:t>
            </a:r>
            <a:br>
              <a:rPr sz="4200"/>
            </a:br>
            <a:r>
              <a:rPr b="0" lang="fa-IR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00160" y="43920"/>
            <a:ext cx="941040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¸å×á¿á¶ ,á½ãnCÊ ëoác ÔÃá® âVåoáRá{ ØãËåRáÎ áÑ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2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گيرم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ى معبود من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رارت آتشت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ا تحمل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م اما چگونه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360" y="-53172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¸å×á¾ åÅF ,áÀãXáÆBoá¾ ÔÂB ão~á~«éËÂB ãÌá® âoãRå{F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á½âÒå·á® ØãMC_án áÑ ãnCéËÂB Øã¶ âÌâ¿åsF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چشم پوشيدن از بزرگواريت را بر خود هموار سازم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ا چگونه در ميان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آتش بمانم با اينكه اميد عفو تو را دار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-17136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æCºãjC{ âÈãtåºâF ,áÕÙåÒáÆ áÑ Õãkë×ás CÖ áÀãWéqã¯ãRá¶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CÏãÃåÎF áÌå×áQ áÀå×áÂH éÌé`ã¢Û ,æC»ã¦CÊ ØãËáXå¾áoáW åÌãNáÂ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2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س به عزتت سوگند اى آقا و مولاى من براستى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وگند مى خورم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ه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گر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زبانم را در آنجا باز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گذارى حتماً در ميان دوزخيا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90612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fBoâ{ áÀå×áÂH éÌá~~gâoå{Û áÑ ,áÌå×ãÃãÆÝB áaå×ã`á¢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GB" sz="4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يون را بسويت سر دهم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مچون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يون اشخاص آرزومند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1376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AC~~~~~~á¿âQ áÀå×áÃá® éÌá×ã¿åQÛ áÑ ,áÌ×ãgãoå|áX~~~åtâÇÂB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áÌÖãkãºC·ÂB</a:t>
            </a:r>
            <a:br>
              <a:rPr sz="60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 درگاهت فرياد برآرم و قطعاً مانند عزيز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گمگشتگان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 دورى تو گريه و زار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م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Ì×ãËãÆåKâÇÂB éØãÂáÑ CÖ ,áYåËâ¾ áÌåÖF áÀéËáÖãjCÊâÛ áÑ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3000"/>
            </a:br>
            <a:br>
              <a:rPr sz="3000"/>
            </a:br>
            <a:br>
              <a:rPr sz="3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ا صداى بلند تو را مى خوانم و مى گويم </a:t>
            </a:r>
            <a:br>
              <a:rPr sz="4200"/>
            </a:b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جايى اى يار و نگهدار مؤ منان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5T12:49:33Z</dcterms:created>
  <dc:creator/>
  <dc:description/>
  <dc:language>en-US</dc:language>
  <cp:lastModifiedBy>Seyed Mohammad Kazem Motallebi</cp:lastModifiedBy>
  <dcterms:modified xsi:type="dcterms:W3CDTF">2008-02-04T08:27:31Z</dcterms:modified>
  <cp:revision>139</cp:revision>
  <dc:subject/>
  <dc:title>Dua e Kumail</dc:title>
</cp:coreProperties>
</file>