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C57-F595-439D-BDB5-BE28284D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C1E-95F5-478F-9916-65D8B956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0FE-03D6-4C5C-865D-3668259D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16D-4D8B-4EB0-851F-57D748D3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35D-47D0-40A2-9673-FD36A23A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0ED-03BC-43F5-B1A7-BBA28204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C9B-7C54-4CC0-AB60-730BC3D5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0EF-AA96-4308-AA02-F49C1E70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858-C1DB-48D6-A4A3-21D42CEA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526-4B56-478A-A25B-4A01282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F55-0295-4125-A29F-04512253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226-58B8-41F0-B938-DA8AD6EA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C9F8-D781-4665-9905-145E6D236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tawasolb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awasol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ْمُجْتَبى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پيش خدا شفاعت كن براى ما نزد خدا اى ابا محم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سن بن عل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برگزيده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سَيْنَ بْنَ عَلِي اَيُّهَا الشَّهيدُ يَا بْنَ رَسُولِ اللّهِ يا حُجَّةَ اللّهِ عَلى خَلْقِهِ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عبدالله اى حسين بن على اى شهيد (راه حق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228600" y="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الْحُسَيْنِ يا زَيْنَ الْعابِدينَ يَا بْنَ رَسُولِ اللّهِ 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با الحسن اى على بن الحسين اى زيور پرستش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ْباقِر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جعفر اى محمد بن على اى شكافنده علو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عَبْدِ اللّهِ يا جَعْفَرَ بْنَ مُحَمَّدٍ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يُّهَا الصّادِق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عبدالله اى جعفر بن محمد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(ا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ا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ادق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اَللّهُمَّ اِنّى اَسْئَلُكَ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َتَوَجَّهُ اِلَيْكَ بِنَبِيِّكَ نَبِىِّ الرَّحْمَةِ مُحَمَّدٍ صَلَّى اللّهُ عَلَيْهِ وَآل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خدايا از تو مى خواهم و بسويت رو كنم بوسيله پيامبر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پيامبر رحمت محمد صلى الله عليه وآ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مُوسَى بْنَ جَعْفَرٍ اَيُّهَا الْكاظِمُ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وسى بن جعفر اى كاظ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</a:t>
            </a:r>
            <a:r>
              <a:rPr b="1" lang="fa-IR" sz="3200" spc="-1" strike="noStrike">
                <a:solidFill>
                  <a:srgbClr val="000000"/>
                </a:solidFill>
                <a:latin typeface="Calibri"/>
                <a:ea typeface="Arial"/>
              </a:rPr>
              <a:t>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</a:t>
            </a: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اَبَا الْحَسَنِ يا عَلِىَّ بْنَ مُوسى اَيُّهَا الرِّضا يَا بْنَ رَسُولِ اللّهِ يا حُجَّةَ اللّهِ عَلى خَلْقِ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وسى اى (حضرت) رض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جَعْفَرٍ يا مُحَمَّدَ بْنَ عَلِي اَيُّهَا التَّقِىُّ الْجَوادُ يَا بْنَ رَسُولِ اللّهِ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جعفر اى محمد بن على اى حضرت تقى جو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عَلِىَّ بْنَ مُحَمَّدٍ اَيُّهَا الْهادِى النَّقِىُّ يَا بْنَ رَسُولِ اللّهِ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حسن اى على بن محمد اى حضرت هادى نق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يا اَبا مُحَمَّدٍ يا حَسَنَ بْنَ عَلِي اَيُّهَا</a:t>
            </a: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300" spc="-1" strike="noStrike">
                <a:solidFill>
                  <a:srgbClr val="000000"/>
                </a:solidFill>
                <a:latin typeface="Calibri"/>
                <a:cs typeface="Arial"/>
              </a:rPr>
              <a:t>الزَّكِىُّ الْعَسْكَرِىُّ يَا بْنَ رَسُولِ اللّهِ يا حُجَّةَ اللّهِ عَلى خَلْقِهِ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 محمد اى حسن بن على 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زكى عسكر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رزند رسول خدا اى 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الْقاسِمِ يا رَسُولَ اللّهِ يا اِمامَ الرَّحْمَةِ يا سَيِّدَنا وَمَوْلينا اِنّا تَوَجَّهْنا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ابا القاسم اى رسول خدا اى پيشواى رحمت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 ما رو آورديم و</a:t>
            </a:r>
            <a:br>
              <a:rPr sz="44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صِىَّ الْحَسَنِ وَالْخَلَفَ الْحُجَّةَ اَيُّهَا الْقاَّئِمُ الْمُنْتَظَرُ الْمَهْدِىُّ يَا بْنَ رَسُولِ اللّهِ ي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وصى امام حسن عسكرى و يادگار شايسته و حج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مام قائم منتظر مهدى اى فرزند رسول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حجت خدا بر خل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سادَتى وَمَوالِىَّ اِنّى تَوَجَّهْتُ بِكُمْ اَئِمَّتى وَعُدَّتى لِيَوْمِ فَقْرى وَحاجَتى اِلَى اللّهِ وَتَوَسَّلْتُ بِكُمْ اِلَى اللّه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و سرورانم من رو آوردم بوسيله شما پيشوايان و ذخيرگانم در روز ندارى و نيازمندى بدرگاه خدا و توسل جستم بوسيله شما به درگاه خ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تُ بِكُمْ اِلَى اللّهِ فَاشْفَعُوا لى عِنْدَ اللّهِ وَاسْتَنْقِذُونى مِنْ ذُنُوبى عِنْدَ اللّهِ فَاِنَّكُمْ وَسيلَتى اِلَى اللّهِ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شفاعت جويى كردم بوسيله شما به درگاه خدا پس شفاعت كنيد براى من در پيشگاه خدا و از او بخواهيد مرا از گناهانم نجات دهد زيرا شماييد وسيله من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فَاِنَّكُمْ وَسيلَتى اِلَى اللّهِ وَبِحُبِّكُمْ وَبِقُرْبِكُمْ اَرْجُو نَجاةً مِنَ اللّهِ فَكُونُوا عِنْدَ اللّهِ رَجاَّئى يا سادَتى يا اَوْلِياَّء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بوسيله دوستى و قرب به شما اميد از خدا دار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پس شما هم مايه اميد من به درگاه خدا باشي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آقايان من اى اولياء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صَلَّى اللّهُ عَلَيْهِمْ اَجْمَعينَ وَلَعَنَ اللّهُ اَعْداَّءَ اللّهِ ظالِميهِمْ مِنَ الاْوَّل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ود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دا بر همگى ايشان و خدا ستم كنندگ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ه ايشان را كه دشمنان خدا هستند از رحمت خوي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وركند چه آنهاكه گذشته ان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لاْخِرينَ امينَ رَبَّ الْعالَمين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چه آنها كه پس از اين آيند آمين رب العال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وَاسْتَشْفَعْنا وَتَوَسَّلْنا بِكَ اِلَى اللّهِ وَقَدَّمْناكَ بَيْنَ يَدَىْ حاجاتِنا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فيع گرفتيم و توسل جستيم بوسيله تو به درگاه خد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 تو را پيش روى حاجتهاى خويش قرار دهيم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وَجيهاً عِنْدَ اللّهِ اِشْفَعْ لَنا عِنْدَ اللّ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 ما نزد خدا شفاعت كن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اَبَا الْحَسَنِ يا اَميرَ الْمُؤْمِنينَ يا عَلِىَّ بْنَ اَبيطالِبٍ يا حُجَّةَ اللّهِ عَلى خَلْقِهِ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اباالحسن اى اميرمؤ منان اى على بن ابيطال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حجت خدا بر خل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فاطِمَةَ الزَّهْراَّءُ يا بِنْتَ مُحَمَّدٍ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cs typeface="Arial"/>
              </a:rPr>
              <a:t>يا قُرَّةَ عَيْنِ الرَّسُول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Calibri"/>
                <a:cs typeface="Arial"/>
              </a:rPr>
              <a:t>اى فاطمه زهرا ا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ختر محمد اى نور چشم پيغمب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304920" y="0"/>
            <a:ext cx="85341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4200"/>
                </a:solidFill>
                <a:latin typeface="Calibri"/>
                <a:cs typeface="Arial"/>
              </a:rPr>
              <a:t>يا سَيِّدَنا وَمَوْلينا اِنّا تَوَجَّهْنا وَاسْتَشْفَعْنا وَتَوَسَّلْنا بِكَ اِلَى اللّهِ وَقَدَّمْناكَ بَيْنَ يَدَىْ حاجاتِن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4200"/>
                </a:solidFill>
                <a:latin typeface="Calibri"/>
                <a:cs typeface="Arial"/>
              </a:rPr>
              <a:t>يا وَجيهاً عِنْدَ اللّهِ اِشْفَعْ لَنا عِنْدَ اللّهِ</a:t>
            </a:r>
            <a:r>
              <a:rPr b="1" lang="fa-IR" sz="4400" spc="-1" strike="noStrike">
                <a:solidFill>
                  <a:srgbClr val="0042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ى آقاى ما و سرور ما، ما رو آورديم و شفيع گرفتي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و توسل جستيم بوسيله تو به درگاه خدا 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تو را پيش روى حاجتهاى خويش قرار داد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Calibri"/>
                <a:cs typeface="Arial"/>
              </a:rPr>
              <a:t>ای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آبرومند در نزد خدا براى</a:t>
            </a:r>
            <a:r>
              <a:rPr b="1" lang="fa-IR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ما نزد خدا شفاعت ك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3:08:15Z</dcterms:created>
  <dc:creator>Seyed Mohammad Kazem Motallebi</dc:creator>
  <dc:description/>
  <dc:language>en-US</dc:language>
  <cp:lastModifiedBy>Seyed Mohammad Kazem Motallebi</cp:lastModifiedBy>
  <dcterms:modified xsi:type="dcterms:W3CDTF">2008-02-07T04:40:47Z</dcterms:modified>
  <cp:revision>25</cp:revision>
  <dc:subject/>
  <dc:title>d</dc:title>
</cp:coreProperties>
</file>