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EE5-5EBC-480A-B2FB-5EADF83B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76D-AEFC-4756-B524-9CC46B0A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A33-BCC7-44B2-A2A5-DB5117A5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33E-AB23-42BF-8937-11FE888C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63C-26D2-4CD6-BF6F-4B18ADAF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015-BB3F-4262-88D2-A931F709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1AB-E3B6-4244-9FDA-83A90287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D1D-64F6-4BA0-89D2-04FAA476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7B4-417E-46E3-99E9-610C717B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3A6-67D4-4B53-BB55-E217AF79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C91-9275-4801-A55A-19741B13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A1F-97DB-4089-8D31-D0A31937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515E-0EC7-47D8-8388-7998B05EDB02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quran+namaz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81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ظهر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quran+namaz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c000"/>
                </a:solidFill>
                <a:latin typeface="Calibri"/>
              </a:rPr>
              <a:t>بِسم الله الرَحمن الرَحیم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F_elham"/>
              </a:rPr>
              <a:t>لا اِلهَ الّا اللهُ الْعَظیمُ الْحَلیمُ لآ اِلهَ اِلّا اللهُ رَبُّ الْعَرْشِ الْکَریمُ اَلْحَمْدُ لِلّهِ رَبِّ الْعالَمینَ اَلّلهُمَّ اِنّی اَسْئَلُکَ موُجِباتِ رَحْمَتِکَ وَعَزآئِمَ مَغْفِرَتِکَ وَالْغَنیمَةَ مِنْ کُلِّ بِرٍّّوَالسَّلامَةَ مِنْ کُلِّ اِثْم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اَلّلهُمَّ لاتَدَعْ لی ذَنْباً اِلّا غَفَرْتَهُ وَلا هَمّاً اِلّا فَرَّجْتَهُ وَلا سُقْماً اِلّا شَفَیْتَهُ وَلا عَیْباً اِلّا سَتَرْتَهُ وَلا رِزْقاً اِلّا بَسَطْتَهُ وَلا خَوْفاً اِلّا </a:t>
            </a: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َنْتَهُ وَلا سُوءً اِلّا صَرَفْتَهُ وَلا حاجَةً هِیَ لَکَ رِضاً وَلِیَ فیها صَلاحٌ اِلّا قَضَیْتَها یآ اَرْحَمَ الرّاحِمینَ </a:t>
            </a:r>
            <a:br>
              <a:rPr sz="4000"/>
            </a:br>
            <a:r>
              <a:rPr b="1" lang="fa-IR" sz="4000" spc="-1" strike="noStrike">
                <a:solidFill>
                  <a:srgbClr val="ffffff"/>
                </a:solidFill>
                <a:latin typeface="Calibri"/>
              </a:rPr>
              <a:t>آ</a:t>
            </a:r>
            <a:r>
              <a:rPr b="1" lang="ar-SA" sz="4000" spc="-1" strike="noStrike">
                <a:solidFill>
                  <a:srgbClr val="ffffff"/>
                </a:solidFill>
                <a:latin typeface="Calibri"/>
              </a:rPr>
              <a:t>مینَ رَبَّ الْعالَمین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/>
  <dc:description/>
  <dc:language>en-US</dc:language>
  <cp:lastModifiedBy>Seyed Mohammad Kazem Motallebi</cp:lastModifiedBy>
  <dcterms:modified xsi:type="dcterms:W3CDTF">2008-02-02T02:09:45Z</dcterms:modified>
  <cp:revision>9</cp:revision>
  <dc:subject/>
  <dc:title>Namaz Zohar</dc:title>
</cp:coreProperties>
</file>