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458-756B-4935-A526-4DDCB457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C8D-B355-401A-B173-F228FAC4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4D4-58FD-47E0-969F-EDC58269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955-5023-4C28-8869-60413A9E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E42-0E0B-4F10-95EE-C6C31F13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FA5-FDD6-4A9D-949C-2C45F328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597-FF78-4F9C-AECD-0F6D6606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5A6-1C99-437D-AC79-CAC55E29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6C1-6C3F-480E-A52B-DE5472A1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832-315B-4812-9385-1C9A719B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F6F-BF62-4BB0-AA42-E9128505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EC9-1335-4446-AB44-FC44EB68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2957-340E-43DD-A7F3-D21114571EA8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quran+namaz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81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ظهر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quran+namaz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000"/>
                </a:solidFill>
                <a:latin typeface="Calibri"/>
              </a:rPr>
              <a:t>بِسم الله الرَحمن الرَحیم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F_elham"/>
              </a:rPr>
              <a:t>لا اِلهَ الّا اللهُ الْعَظیمُ الْحَلیمُ لآ اِلهَ اِلّا اللهُ رَبُّ الْعَرْشِ الْکَریمُ اَلْحَمْدُ لِلّهِ رَبِّ الْعالَمینَ اَلّلهُمَّ اِنّی اَسْئَلُکَ موُجِباتِ رَحْمَتِکَ وَعَزآئِمَ مَغْفِرَتِکَ وَالْغَنیمَةَ مِنْ کُلِّ بِرٍّّوَالسَّلامَةَ مِنْ کُلِّ اِثْم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اَلّلهُمَّ لاتَدَعْ لی ذَنْباً اِلّا غَفَرْتَهُ وَلا هَمّاً اِلّا فَرَّجْتَهُ وَلا سُقْماً اِلّا شَفَیْتَهُ وَلا عَیْباً اِلّا سَتَرْتَهُ وَلا رِزْقاً اِلّا بَسَطْتَهُ وَلا خَوْفاً اِلّا </a:t>
            </a: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َنْتَهُ وَلا سُوءً اِلّا صَرَفْتَهُ وَلا حاجَةً هِیَ لَکَ رِضاً وَلِیَ فیها صَلاحٌ اِلّا قَضَیْتَها یآ اَرْحَمَ الرّاحِمینَ </a:t>
            </a:r>
            <a:br>
              <a:rPr sz="4000"/>
            </a:b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ینَ رَبَّ الْعالَمین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/>
  <dc:description/>
  <dc:language>en-US</dc:language>
  <cp:lastModifiedBy>Seyed Mohammad Kazem Motallebi</cp:lastModifiedBy>
  <dcterms:modified xsi:type="dcterms:W3CDTF">2008-02-02T02:09:45Z</dcterms:modified>
  <cp:revision>9</cp:revision>
  <dc:subject/>
  <dc:title>Namaz Zohar</dc:title>
</cp:coreProperties>
</file>