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907588" cy="6858000"/>
  <p:notesSz cx="6858000" cy="9144000"/>
  <p:custShowLst>
    <p:custShow name="Custom Show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3A49-2267-41CA-A65B-B15230C78C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B25E-61F2-4E79-89E6-87A98454D9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5944-8EED-41EF-B9C5-91BD856664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3AB2-6D2E-4DA0-984E-03B39BB1AA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DC3C-7BE2-4085-8E3F-42821593B0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D05B-4EE8-4076-AB79-978ACB7734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5504-1E56-43B3-AEB0-B299A753FB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A898-9D9C-4F86-85E6-B50C9C4A86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0831-BA11-4C2D-84A7-DB4F840A7D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5569-37D2-4F04-97BE-550E9CA5AF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95C5-1E12-4170-8018-FA1354C3E3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7236-712E-499B-9589-DEA46472A1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179B-E897-4EC3-B707-6191EAD59E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D2A6-B247-4C9B-9277-F1096E91D1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949E-0CAE-46E9-A907-0D3CC2DFF8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A3A1-C61F-461B-A590-85D00987AF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62DC-9C0F-405F-AE42-F81B6AF349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61A6-613D-4362-87C7-00ED22B12C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F8AD-5134-4BB0-84C0-35063AC42B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0DE8-666B-47D4-A740-88393E2CAE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E51F-57E6-4027-97ED-B22D667F2D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A72E-720B-48C3-9914-D8290A8530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AEA0-8376-4359-9490-FF0DFF780E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F010-02C1-43CD-93B9-D6B9882031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F7E0-85D4-47F7-AFCD-69E1C35D3D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4E03-749C-44B5-B514-13CFB92209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45AD-3AB2-4D7E-B943-1FA8963BD7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1EFF-F015-4517-88B3-94ADA4C320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CFD5-94A4-4519-9574-E0461CB1B0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EE03-E161-46FC-9AA7-882391C89B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9BC9-FBAF-4431-BB32-6AE41D620F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FD86-95B1-4FF1-8464-6CC7BDF13D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8610-A16E-4FC3-AF2F-F63C60B196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8D84-C762-4203-83B7-ABD2754E16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FEFC-2276-4D99-811A-D1610FAE27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3B96-4E4A-4244-AFC0-BCF5507115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F238-06A7-40E2-9F8A-915B2E238C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FB2E-1EAB-49B2-8967-599422B0BA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8410-B26F-42FD-89FB-73E6FE4D51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EA62-0DB9-4694-8FCF-4BCC67AB99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66E7-BE20-4173-8915-CE43012442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319A-57D3-450D-BDF7-F0C6FA2DDD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EB30-8F63-433E-B3A9-2DB12ED179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F555-DF67-4DD5-8F0D-721DA3F6FA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B804-EA0B-4FCB-9232-D4955F6F5E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5B33-18B1-44B2-B509-E466082908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D3EB-E8A3-49EE-9D8F-94A3E41AB8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6997-114B-499E-BE15-6618C346A8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587F-BF95-4484-B78F-788358969E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9197-9BE3-469A-9EE0-4F0D159B1C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3976-BB69-48F0-B4CC-394A20EFC8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8FB6-2ABC-41D4-BBF5-6352ACA417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8280-882F-4037-AB93-8057C48FA6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140E-75AF-402B-B349-785E972B1C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1673-5C34-42BE-B894-D81E8DC1D4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3B12-7DD9-40BA-929A-FE356030DB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9CFD-8278-46C5-B929-B03012F0F9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1500-75EC-4540-A39F-49A2108C6C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1B97-F6A4-4659-A743-6766B6B1CD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C7CF-DC23-4D99-B52C-94257943FD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D90E-B1D3-439B-8C9C-26AC498BFF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E530-2218-45C9-A001-02FA9067C4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9086-21CC-431D-97F4-682BACE094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D9CF-4343-434C-9C3E-4171B11EFF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ECB5-A57C-498A-96CA-6EEAFDF97E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13BD-E0E7-4BA0-98F4-733FCCBA46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10B1-DB69-4D85-B171-5C7900D8C7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578C-2013-4640-AE19-8B2D55B4E3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1BAD-9F91-46E4-BC5D-B8D26B7CCB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5BF7-6436-4EF7-94E2-AE1BF19719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8915-C358-49C9-AFED-02E539A9E1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0F19-9F94-4A9F-BD41-07FB00B234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4AEE-45FD-42AA-ADA9-52748D2298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0BE4-6A6B-4A97-A54C-ABC58029EF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0779-24F1-426D-92FB-A4D4A444FB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48C3-7597-4554-A03C-965D1ABF77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AAE4-10AA-47AF-A61D-2CE6F9CDCC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D9A2-1DF0-4D71-B4BA-EB951B5F5C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B70D-95F3-4F25-94B3-AF572518DB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3DE9-2745-4513-AB12-8088C78AFE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A982-90C5-4E42-9172-1372991CEC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F08D-2A57-4E35-A709-6D43A184D1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22C1-357D-4104-A277-967ED4BC20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6D73-F93C-40BF-95BD-338E4DD1D6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96E5-96B8-43F3-BA00-246962729B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D4E5-AD5C-4EDA-97B0-EA8E5708DF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068B-3B17-49F6-9802-D52F815282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D376-4629-46B0-9E7B-BA294820BB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19A8-19EE-4520-B4AC-E0FAB5E737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72E4-4B5E-4A4C-820F-137FCF29F9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7E7C-F014-454B-B906-823A751EA2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6696-91BA-4DCE-89A7-A96D76537F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25B3-C8AC-4AF7-ACE2-410D5FB2CB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5007-6436-4DB2-91A5-B896031225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29B2-0C8F-4C68-9A24-FC692DA30E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A042-918C-4556-BF5E-066B4794AB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9961-05B0-4370-B0CD-843341BD48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8D35-DB3E-4BC6-9739-9A6DED3B1C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ABAE-0E6B-47BB-9DDF-1FEF04B741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8CB7-19BC-4794-98BA-5A5A08C1A5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D44C-F7BD-440E-911D-BDE7851E4C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6873-68DE-4FF8-820D-5EF16BDCF2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B8CD-6B69-471F-8F29-5335DF891C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886B-890F-45F9-AB21-7A11F9ADC6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9884-0ED8-4BC2-8F89-EDD040705C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55B7-AA9C-4142-8D3E-AF31D0C0EB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C952-4643-4F61-933B-642C87580B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FF37-E4A5-41F6-A1D3-2060DE42B3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F8AA-C56B-4490-91BF-971277E5B3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FC5A-D202-47E7-84F0-F9834D54FE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FC4C-79AB-454D-8E2C-656B2C809D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E110-C8A9-4D25-83CD-6550EE15EC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DDA8-4EFF-43FD-8B13-4CF4AF17BE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D922-0C6E-4B14-A299-FEF3937676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D180-7003-405C-B3B6-6CB54002BC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99A1-93A2-4071-AB1A-83858A23FB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FC12-11B5-4FB4-A804-4B2A437A1B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74E9-1B62-4F56-82C4-598675492C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3853-6249-426F-A095-DED7A6ED57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0088-BAAF-435F-A8B7-97C57A8F9B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6F99-E4C2-4AFF-9039-56C18C1163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E6BA-0067-445D-B89C-1FED8F68D1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32A2-ABDB-4089-BB04-C4AA1B101E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2DAA-A8D6-499B-A802-C59B8DD554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F78-07BA-48DC-AC59-0C681FAB55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CD9E-81DA-4C0A-B10F-8E7B935236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A21C-747E-49E3-94B2-6724899EBD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C560-71A3-48D7-A12D-6803B6AF7D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DAB0-3378-43F4-A5A5-1C832A4C69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CD5D-3878-45DC-9EF9-D9B7752095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012B-0003-447A-95BC-D73B584C73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91B0-0FD5-4926-A52F-A204CE3E86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CB4C-A64B-4C92-9C57-030585277A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FF0B-450A-41D6-9810-F406B8FB9E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3CC5-BC1B-440E-B464-F029A428B4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2EB2-ADAF-41EA-B0F0-9EFAD106FA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3E81-3FAE-4DB4-8201-7FCC7448FB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F844-D549-47D8-913E-7F5A34C454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DDEA-F8F7-4419-B943-2B0AB79011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548A-4DD2-493C-927F-DA6A9CEEFF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33FA-11DB-4BF4-9838-448DA368CA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FDE3-8EEE-4057-85EF-36F264A55F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A321-51DC-4AB9-A965-93D9ABA21D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D6D6-F132-4DA0-8203-7027C5C269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B6ED-1D7A-46FA-AAF1-5FD75318CF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3A00-FD9B-4D25-BA09-3E397B69E6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CAE9-F1F0-4031-BC78-428D1968C7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4532-21F2-45FA-89A6-63C261CAE8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48BD-ED13-4E90-88AD-1BBAB4D7B3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1928-A7A6-4761-AD5A-3DD18CE061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3BA5-E5AD-4F65-8323-713A0429E3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FC79-21AB-4896-8450-C3DEA5E64B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CC98-1C7E-49A4-AE52-64A87C5D37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A4E5-72DE-4FD3-B035-E529997471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A46A-04ED-461D-8C91-9FD561B536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6CFC-A687-434C-AF05-D8295736DF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E425-7021-4960-82F0-992B48ABB4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E4B3-9D75-49BA-B0D8-79CA14D194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3F4D-277B-4FB0-AE7C-0CFCFFBD5A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2AE2-25AF-4000-B69D-C8A6F6E849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009F-3B26-4EFD-BBE3-96E0A62F2B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84D8-0370-4EDB-BC31-87C1AC0417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C55F-D561-45F8-9C64-A47A56B1A1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CA8D-E3D9-4488-A4E1-77CFE82832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993A-AD65-4F72-9CD0-3135136294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1CD7-C04C-4C58-8233-C3E216E51F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5B8A-9D86-4732-B4A5-E6B0750D1C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77FF1-0E70-4190-B68C-99640F8D42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CFA1-1DA6-4586-81B0-E61841A0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231D-5333-4FB4-AC50-B3B5B93B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E49F-102F-431B-8357-70EDB3D9EC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9C05-694D-411E-9B36-6115419C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0635-54E0-46E8-B090-768F4298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A42C-DF77-4FE6-80A9-210BD455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9B18-8E55-462F-87B5-043B68F1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2520" y="7957800"/>
            <a:ext cx="9410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6DAB-C53F-415E-8713-40E787FB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D942-2158-4CA0-88D2-2D69935D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621D-26BB-453E-9627-6659E24D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0617-3B32-4C0A-869D-C1EEEAC9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C395-E399-45F2-A507-61204377D3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89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2" descr="komail banner"/>
          <p:cNvPicPr/>
          <p:nvPr/>
        </p:nvPicPr>
        <p:blipFill>
          <a:blip r:embed="rId3"/>
          <a:stretch/>
        </p:blipFill>
        <p:spPr>
          <a:xfrm>
            <a:off x="0" y="6194520"/>
            <a:ext cx="990612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madinah.jpg"/>
          <p:cNvPicPr/>
          <p:nvPr/>
        </p:nvPicPr>
        <p:blipFill>
          <a:blip r:embed="rId1"/>
          <a:stretch/>
        </p:blipFill>
        <p:spPr>
          <a:xfrm>
            <a:off x="0" y="-44280"/>
            <a:ext cx="9906120" cy="7000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998800" y="262080"/>
            <a:ext cx="36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ی کمیل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AØáw ëÄâ¾ áÉC¾ånF åVÜáÆ ØãXéÂB áÀãMCÇåsG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امهاى مقد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ساس هر موجودى را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áÌ×ã¶ãnC¯ÂB ãÁCÆD áUáÖC²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نتهاى آرمان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رف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\å×ã³áXåtâÇÂB ZC×ã² CÖ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0" lang="fa-IR" sz="72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يادرس درماندگ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,áÌ×ãºãjCé|ÂB ãPÒâÃâº áSå×ãRác CÖ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حبوب دل راستگوي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ÇáÂC¯ÂB áÐÂH CÖ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ران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عالميا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176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½ãkåÇádãQ áÑ ØãÏÂH CÖ áÀáÊCdåRâs á½BoâXá¶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 áÌã`âs èÈãÃåtâÆ èk~åRá® áVåÒá{ CÏå×ã¶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ستى چنان مى بينى اى منزه و معبود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ستايشت مشغو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شنوى در آن آتش صداى بنده مسلم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ث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ãÐãXá×ã|å¯áÇãQ CÏãQBmá® áÈå¯á¦ á¹Bl áÑ ,ãÐãXá·áÂChâÇ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ãÐãWáoåÖãoá_ áÑ ãÐãÆåoâ`ãQ CÏãºCRå¦F áÌå×áQ áuãRâc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0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ت دوزخ به واسطه جرم و جنايت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فتار شده</a:t>
            </a:r>
            <a:r>
              <a:rPr b="1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لفتش در آنجا زندانى شده و مزه عذاب آتش را به خاطر نافرمانيش چشيده و در ميان</a:t>
            </a:r>
            <a:r>
              <a:rPr b="0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620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áÑ ,áÀãXáÇåcáoãÂ èÄëÆáKâÆ áaå×ã`á¢ áÀå×áÂH êaã£áÖ áÒâÎ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½ãk×ãcåÒáW  ãÄåÎF ãÉCtãÃãQ áÀåÖãjCËâÖ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,áÀãXé×ãQÒâQâoãQ áÀå×áÂH</a:t>
            </a:r>
            <a:r>
              <a:rPr b="0" lang="en-GB" sz="5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âÄésáÒáXáÖ áÑ</a:t>
            </a:r>
            <a:br>
              <a:rPr sz="5500"/>
            </a:br>
            <a:br>
              <a:rPr sz="5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آن حال به درگاهت شيو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شيون شخص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رزومند رحمت تو است و به زبان يگانه پرستان تو را فرياد زند و به بنده پروريت متوسل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ãPBmá¯ÂB Øã¶ Ô»åRáÖ á¸å×á¿á¶ áÕÙåÒáÆ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ÇåÃãc åÌãÆ á¸áÃás CÆ Òâ_åoáÖ</a:t>
            </a:r>
            <a:br>
              <a:rPr sz="6000"/>
            </a:br>
            <a:br>
              <a:rPr sz="60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ولاى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در عذاب بماند با اينكه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دبارى سابقه دارت چشم اميد دار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9320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áÃå£á¶ âÄâÆGÖ áÒâÎ áÑ ânCéËÂB âÐâÇãÂåKâW á¸å×á¾ åÅ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او را بيازارد با</a:t>
            </a:r>
            <a:br>
              <a:rPr sz="4200"/>
            </a:br>
            <a:r>
              <a:rPr b="1" lang="ar-S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كه آرزوى فضل و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ÊF áÑ CáÏâRå×ãÏáÂ âÐâºãoådâÖ á¸å×á¾ åÅF ,áÀáXáÇåcán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âÐáÊC¿áÆ ÓoáW áÑ âÐáWåÒá{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ت تو را دارد يا چگونه شعله آتش او را بسوزا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صدايش را بشنوى و جايش را ببينى يا چگو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ëÄâ¿ãQ á¦CcF  Õãm~~~~é~ÂB áÀãÇåÃã¯ãQ áÑ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آن علم و دان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حاطه يافت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ÅF ,âÐá·å¯á¢ âÈáÃå¯áW áYåÊF áÑ CÎâo×ã¶áp ãÐå×áÃá® âÄãÇáXåxáÖ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áÃå¯áW áYåÊF áÑ CÏãºCRå¦F áÌå×áQ âÄá»åÃá»áXáÖ á¸å×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¾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ره هاى آتش او را دربرگير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توانيش 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 طبق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دست و پا زند با اينك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9410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CÏâXá×ãÊCQáp âÍâoâ_åqáW á¸å×á¾ åÅF ,âÐáºåkã{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éQán CÖ áÀÖãjCËâÖ</a:t>
            </a:r>
            <a:br>
              <a:rPr sz="6000"/>
            </a:br>
            <a:br>
              <a:rPr sz="2900"/>
            </a:br>
            <a:br>
              <a:rPr sz="2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صدق و راستگوئيش را دانى ي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گو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ن دوزخ او را با تندى برانند 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پروردگارى بخو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Ðá¾âoåXáXá¶ CÏåËãÆ ãÐã»åXã® Øã¶ áÀáÃå£á¶ Òâ_åoáÖ á¸å×á¾ åÅ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ممكن 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يد فضل تو را د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زادى خويش داشته باش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µÑâoå¯áÇÂB Ù áÑ ,áÀãQ âÌé~«ÂB áÀãÂl CÆ áVCÏå×áÎ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ى تو او را به حال خود واگذارى 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يار از تو دور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Q áYå~ÃáÆC® CÇãÂ äÐãRåxâÆ Ù áÑ ,áÀãÃå£á¶ åÌã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ÀãÊCtåcH áÑ á½éoãQ åÌãÆ áÌÖãkëcáÒâÇÂB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نين گمانى به تو نيست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ضل تو اينسان معروف نيست و نه شباهت با رفتار تو نسبت به يگانه پرستان دارد با آن نيكى و احسا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252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ãÐãQ áYåÇá¿ác CÆ ÙåÒáÂ â°á§åºF ãÌ×ã»á×ÂCãR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سبت بدانها دارى و من بطور قطع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گر فرمان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jÚågH åÌãÆ ãÐãQ áYå×á£áº áÑ ,áÀÖãkãcC_ ãSÖãmå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عذب ساختن منكرانت صادر نشده بود و حك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و به هميشه ماندن در عذاب براى دشمنانت در کار نبود</a:t>
            </a: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æBjåoáQ CÏáÃâ¾ ánCéËÂB áYå~Ãá¯á`áÂ ,áÀÖãkãÊC¯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ماً آتش دوزخ را هر چه بود به تمامى سرد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æBéoá»áÆ CÏ×ã¶ èkácÛ áÉC¾ CÆ áÑ ,æCÆÚ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لم م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چكس در آن منز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áYåÇátåºF á½âJCÇåsF åYáséká»áW áÀéËã¿Â ,æCÆC»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ا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ء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 نداشت ولى تو اى خد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مام نامها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س است سوگند يا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وزخ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êÄâ¾ âÐáÂ áAC¢F ÕãméÂB áÀãÏå_áÑ ãnÒâË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ور ذا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وشن شد در پرتوش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rCéËÂB áÑ ãUéËã`ÂB áÌãÆ áÌÖãoã¶C¿ÂB áÌãÆ CÎÜåÇáW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ÊC¯âÇÂB CÏ×ã¶ ákëÃáhâW åÉF áÑ  ,áÌ×ã¯áÇå_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از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فران از پريان و آدميان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را براى هميشه در آن جا دهى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ÂéÒá§áW áÑ æCMãkáXåRâÆ áYåÃâº á½âJCËá[ éÄá_ áYåÊ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د ثنايت برجسته است د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بتداء بدون سابقه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Çá¾ æCËãÆåKâÆ áÉC¾ åÌáÇá¶F ,æCÆëoá¿áXâÆ ãÅC¯åÊßC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ÑâÒáXåtáÖ Ù æC»ãsC¶ áÉC¾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اين انعام از روى بزرگوارى تفضل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م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(آي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مؤمن است مان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است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فاسق است ؟ نه يكسان نيست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äÂB ãTánåkâ»åÂCãQ áÀâÂGåsG¶ Õãkë×ás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CÏáWånék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،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حق آن نيروي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CÏáXåÇáXác ØãXäÂB ãUé×ã£á»ÂCãQ áÑ</a:t>
            </a:r>
            <a:br>
              <a:rPr sz="7200"/>
            </a:br>
            <a:br>
              <a:rPr sz="72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قد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به فرم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سلم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,CÏáXåÖáoå_F ãÐå×áÃá® åÌáÆ áYåRáÃá² áÑ ,CÏáXåÇá¿ác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Uá®CätÂB ãÍãmÎ Øã¶ áÑ ãÐáÃå×äÃÂB ãÍãmÎ Øã¶ ØãÂ áSá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ادر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 آن را اجر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مسلط گشتى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بخشى بر من در اين شب و در اي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ع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âÐâXåRáÊålF èSåÊál éÄâ¾ áÑ ,âÐâXåÆáoå_F èÅåoâ_ éÄâ¾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جرم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تكب شده ام 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ز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XåÃãÇá® èÄåÏá_ éÄâ¾ áÑ ,âÐâWånáoåsF èeå×ãRáº  éÄâ¾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زشت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WåoáÏå~ªF åÑF âÐâXå×á·ågF âÐâXåËáÃå®F åÑF âÐâXåÇáXá¾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RãWC¿ÂB áÅBáoã¿ÂB CÏãWCRå[IãQ áVåoáÆF èUáNë×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چه آشكار چ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در عيان و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بد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نويسندگ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ام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ستور ياددا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ش را داد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ëËãÆ âÉÒâ¿áÖ CÆ ã«å·ãdãQ åÈâÏáXåÃé¾áÑ áÌÖãmä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YåËâ¾ áÑ ,ØãcãnBÒá_ á°áÆ éØáÃá® æBjÒâÏâw åÈâÏáXåÃá¯á_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ن نويسند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ها را 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 بر ثبت اعمال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آن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ضميمه اعضاء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ارحم گواه بر 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ârÑêkâº CÖ ânÒâÊ CÖ</a:t>
            </a:r>
            <a:br>
              <a:rPr sz="7000"/>
            </a:br>
            <a:br>
              <a:rPr sz="7200"/>
            </a:br>
            <a:r>
              <a:rPr b="1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نور حقيقى و اى منزه از هر ع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kãÎCéxÂB áÑ ,åÈãÏãMBnáÑ åÌãÆ éØáÃá® áSå×ãºäoÂB áYåÊ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åÈâÏåËá® áØã·ág CÇãÂ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آنها خودت نيز مراقب من بودى و</a:t>
            </a:r>
            <a:r>
              <a:rPr b="1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اه اعمالى ب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ايشان پنهان مى م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áÀãÃå£á·ãQ áÑ ,âÐáXå×á·ågF áÀãXáÇåcáo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بته به واسطه رحمتت ب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نها را پنهان داش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روى فض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وشان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ÑF ,âÐáXåÂáqåÊF èoå×ág ëÄâ¾  åÌãÆ Øë«ác áoë¶áÒâW åÉ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يز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ره ام را وافر و سرشار گردان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هر خ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فرو ريز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¹åpãn åÑF ,âÐáWåoáxáÊ èäoãQ åÑF ,âÐáXåÃé£á¶ èÉCtåcH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فرمائى يا نيكيهايى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خ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يا رزق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âoâXåtáW èI§ág åÑF ,âÍâoã·å³áW  èSåÊál åÑF ,âÐáXå§átá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سترانى يا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يامرزى يا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پوشانى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</a:t>
            </a: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</a:t>
            </a:r>
            <a:br>
              <a:rPr sz="4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ÕÙåÒáÆ áÑ Õãkë×ás áÑ ØãÏÂH CÖ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ãÍãká×ãQ åÌáÆ CÖ ,Øëºãn áÀãÂCÆ áÑ</a:t>
            </a:r>
            <a:r>
              <a:rPr b="0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6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اى آقا و مولايم و اى مالك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ختيارم بدس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,ØãXáËá¿åtáÆ áÑ Õëoâ£ãQ æCÇ×ãÃá® CÖ ,ØãXá×ã{CÊ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ºC¶ áÑ Õãoå»á·ãQ æBoå×ãRág</a:t>
            </a: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داناى بر پريشانى و بى نوائي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گه از بى چيزى و ندار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، پروردگارا پروردگارا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Èá«å®F áÑ ,áÀãsåkâº áÑ áÀë»ádãQ áÀâÂGåsF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ÌãÆ ØãWCºåÑF áÄá¯å`áW åÉF ,áÀãMCÇåsF áÑ áÀãWC·ã{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تو مى خواهم به حق خودت و به ذات مقدست و به بزرگترين صفا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سمائ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وقات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CÖ áÑ ,áÌ~~~×ãÂéÑÛB áÁéÑF CÖ</a:t>
            </a:r>
            <a:br>
              <a:rPr sz="66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Ì~ÖoãgÝB áoãgD</a:t>
            </a: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غاز موجودات اولين و اى پايان آخري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XáÆåkãhãQ áÑ ,æTánÒâÇå¯áÆ á½ãoå¾ãmãQ ãnCÏéËÂB áÑ ãÄå×äÃ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äXác ,æUáÂÒâRå»áÆ á½ákåËã® ØãÂCÇå®F áÑ ,æUáÂÒâ{åÒá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شب و روز به ياد خودت معمور و آباد گر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خدمتت پيوسته دارى و اعمالم را مقبول درگاهت گرد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æBjånãÑ CÏêÃâ¾ ÕãjBnåÑF áÑ ØãÂCÇå®F áÉÒâ¿áW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 ,æBkáÆåoás áÀãXáÆåkãg Øã¶ ØãÂCác áÑ ,æBkãcBÑ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اعما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فتارم همه يك جهت براى تو باشد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لم هميشه در خدمت تو مصروف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ÂH åÌáÆ CÖ ,ØãÂéÒá¯âÆ ãÐå×áÃá® åÌáÆ CÖ Õãkë×ás CÖ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BÒåcF âVåÒá¿áw </a:t>
            </a: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كيه گاهم او 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شكايت احوال خويش به درگاه او ب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 پروردگارا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åjâkåwB áÑ ,ØãcãnBÒá_ áÀãXáÆåkãg ÔÃá® ëÒ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رو ده بر انجام خدمتت اعضاى مرا و دلم را بر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ékã`ÂB áØãÂ åSáÎ áÑ ,ØãdãÊBÒá_ ãUáÇÖãqá¯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XáÆåkãhãQ ãÁC|ëWßB Øã¶ áÅBÑékÂB áÑ ,áÀãXá×åxág</a:t>
            </a:r>
            <a:br>
              <a:rPr sz="6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زيمت به سويت محكم گردان و به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ش در ترس و خشيتت و مداومت در پيوستن به خدمتت عطا 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Ìå×ã»ãQCétÂB ãÌåÖãjC×áÆ Øã¶ áÀå×áÂH ábáoåsF ÔäXác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ÂH á¹CXåwF áÑ ,áÌåÖãnãjCRâÇÂB Øã¶ áÀå×áÂH áoåsâ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تن و جان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يدانهاى پيشتازان بسويت برانم و در زمره شتابندگان بسويت بشتابم و در صف مشتاق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ÒâÊâj áÀåËãÆ áÒâÊåjF áÑ ,áÌå×ãºCáXåxâÇÂB Øã¶ áÀãQåoâº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ºåÒâÇÂB áUá¶CháÆ áÀá¶CágF áÑ ,áÌå×ã|ãÃåhâÇÂB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بت را جويم و چون نزديك شدن مخلصان ب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يك گردم و چون يقين آ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گان از تو بترس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3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ÆKâÇÂB á°áÆ á½ãnBÒã_ Øã¶ á°ãÇáXå_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جوار رحمتت با مؤمنان در يكجا گرد آ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Ñ ,âÍåjãnGá¶ èAÒâtãQ ØãÊájBnF åÌáÆ áÑ éÈâÏäÃ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~~á~tåcF åÌãÆ ØãËåÃá¯å_B áÑ ,âÍåk~ã~¿á¶ ØãÊájC~~~~¾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 مرا خواه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ش را بخواه و هر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مك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 به مكر خويش دچا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âÀ~~~~ã~XåÏáW ØãXéÂB áPÒâÊêmÂB áØãÂ åoã·å²H éÈâÏäÃÂB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áÈá|ã¯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ده 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ر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UáÂãqåËáÆ åÈãÏãQáoåºF  áÑ ,á½ákåËã® æCRå×~ã~|áÊ á½ãkå×ãRá®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CËâÖ Ù âÐéÊI~á¶ ,áÀåÖákáÂ æUá·åÂâp åÈãÏë|ágF áÑ ,áÀåËãÆ</a:t>
            </a:r>
            <a:br>
              <a:rPr sz="6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صيبم را پيش خود بهتر از ديگر بندگانت قرار 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نزلتم را نزد خود نزديكتر از ايش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رتبه ام را در پيشگاهت مخصوص تر از ديگران گرد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½ãjÒâ`ãQ ØãÂ åkâ_ áÑ ,áÀãÃå£á·ãQ éÙH áÀãÂl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Ëå~«á·åcB áÑ ,á½ãkå`áÇãQ éØáÃá® å¸ã§å®B</a:t>
            </a:r>
            <a:br>
              <a:rPr sz="6000"/>
            </a:br>
            <a:br>
              <a:rPr sz="6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به فضل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به اين مقام نرس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بخشش خود به من ج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د و بزرگوارى خود بر من توج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`ãÏáÂ á½ãoå¾ãmãQ ØãÊCtãÂ åÄá¯å_B áÑ ,áÀãXáÇåcáo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ÌåtâdãQ éØáÃá® éÌâÆ áÑ ,æCÇé×áXâÆ áÀëRâdãQ ØãRåÃáº áÑ</a:t>
            </a:r>
            <a:br>
              <a:rPr sz="60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رحمت خود مرا نگهدار و قرار ده زبان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ت گويا و دلم را به دوستيت بى قرا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يدا و با 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ك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منت ب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éÂáp åoã·å²H áÑ ,ØãWáoå\á® ØãËåÃãºF áÑ ,áÀãXáQC_H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áÀãWájCRã¯ãQ á½ãjCRã® ÔÃá® áYå×á£áº áÀéÊI~á¶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لغزشم را ناديده گير و گناهم را بيامرز زي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خود بندگانت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پرستش خويش فرمان د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UáQC_ßB âÈâÏáÂ áYåËãÇá¢ áÑ ,áÀãMC®âkãQ åÈâÏáWåoáÆ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دع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 به درگاهت ماءمور ساخ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جابت دعايشان را ضمان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áÀå×áÂH áÑ ,ØãÏå_áÑ âYåRá|áÊ ëPán CÖ áÀå×áÂI~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پروردگار من به سوى تو رو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ود بداشتم و به درگاه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Â åSã`áXåsB áÀãWéqã¯ãRá¶ ,ÕãkáÖ âVåjákáÆ ëP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م دست حاجت درا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پس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عزت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å°á§å»áW Ù áÑ ,áÕCËâÆ ØãËå³ëÃáQ áÑ ,ØãMC®âj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جاب فرما و به آرزويم برسان و اميدم را</a:t>
            </a:r>
            <a:r>
              <a:rPr b="1" lang="ar-SA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ëÌã`ÂB éoáw ØãËã·å¾B áÑ ,ØãMC_án áÀãÃå£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خويش قطع منما</a:t>
            </a: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ر دشمنانم را از ج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oã·å²H ,C¢ëoÂB á°Öãoás CÖ ,ØãMBkå®F åÌãÆ ãuåÊß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س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يت فرما اى خد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سریع از م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ضی می شوی، بیامرز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48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Èá»ëËÂB âÁãqåËâW ØãXéÂB áPÒâÊêmÂB áØãÂ åoã·å²H éÈâÏäÃÂB</a:t>
            </a:r>
            <a:br>
              <a:rPr sz="6400"/>
            </a:br>
            <a:br>
              <a:rPr sz="64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قاب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 را فرو ريز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1760" y="6048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âACáxáW CÇãÂ çÁCé¯á¶ áÀéÊIá¶ ,áAC®êkÂB ÙH âÀãÃåÇáÖ Ù åÌáÇãÂ</a:t>
            </a:r>
            <a:br>
              <a:rPr sz="53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چيزى ندار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 ت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را بخواهى انجام ده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çAC~~·ãw âÍâoå¾ãl áÑ ,çABÑáj âÐâÇåsB åÌáÆ CÖ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امش دوا است و ياد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فاء است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ÂCáÆ ârFán åÌáÆ åÈácånãB ,æÔáËã² âÐâXá®Cá¦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AC¿âRÂB âÐ~âcÚ~ã~s áÑ ,âAC_äoÂB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اعتش توانگرى است ترحم فرما ب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مايه اش اميد و ساز و برگش گريه و زارى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ãÈá»ëËÂB á°ã¶Báj CÖ ,ãÈá¯ëËÂB á´ãQCs CÖ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4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م دهنده نعمتها و اى برطرف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گرفتاري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ÇãÂC® CÖ ,ãÈáÃê~«ÂB Øã¶ áÌå×ãxãcåÒáXåtâÇÂB ánåÒâÊ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روشنى وحشت زدگان در تاريكيه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ى دان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kéÇádâÆ ãÁD áÑ èk~~éÇádâÆ ÔÃá® ëÄá{ ,âÈéÃá¯âÖ 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ى مع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ود فرست بر محمد و آل مح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âÐâÃåÎF áY~å~ÊF CÆ ØãQ åÄá¯å¶B áÑ</a:t>
            </a:r>
            <a:br>
              <a:rPr sz="66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نجام ده درباره من آنچه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شايسته آ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UéÇ~~ã~MÛB áÑ ãÐ~ãÂåÒ~â~sán Ô~Ãá® âÐäÃÂB ÔéÃá{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.æBo×ã\~~á~¾ æCÇ×ãÃ~~åtáW áÈéÃ~~~ás áÑ ,ãÐãÃåÎF åÌãÆ Ìå×ãÆC×áÇÂB</a:t>
            </a:r>
            <a:br>
              <a:rPr sz="54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 بر پيامبر و پيشوايان با 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خاندان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لام فرا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Èá¯ëËÂB âoë×á³âW Ø~~~ã~XéÂB áPÒâÊêmÂB áØãÂ åoã·å²H éÈ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عمت ها را تغيير ده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52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C®êkÂB âuãRådáW ØãXéÂB áPÒâÊêmÂB áØãÂ åoã·å²H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âÏäÃÂB</a:t>
            </a:r>
            <a:br>
              <a:rPr sz="60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جلوگ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60200" y="188640"/>
            <a:ext cx="99057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ÚáRÂB âÁãqåËâW ØãXéÂB áPÒâÊêmÂB áØãÂ åoã·å²H éÈâÏäÃÂB</a:t>
            </a:r>
            <a:br>
              <a:rPr sz="60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لا نازل آ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ãÈ~~~~~~~~×ãcéoÂB ãÌáÇåcéoÂB ãÐéÃÂB ãÈåtãQ</a:t>
            </a:r>
            <a:br>
              <a:rPr sz="7200"/>
            </a:br>
            <a:br>
              <a:rPr sz="7200"/>
            </a:b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نام خداوند بخشنده مهربا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484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XåRáÊålF èSåÊál éÄâ¾ áØãÂ åoã·å²H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CÏ~~~~â~WG§~ågF èUN×ã§ág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 زد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ãoå¾ãmãQ áÀ×áÂH âPéoá»áWF ØëÊH éÈâÏäÃÂB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به سوى تو تقرب جو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Àãtå·áÊ ÔÂH áÀãQ â°ã·åxáXåsF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فيع آورم بدرگاهت خودت ر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Qåoâº åÌãÆ ØãËá×ãÊåkâW åÉF á½ãjÒâ`ãQ áÀâÂGås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ت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ا به مقا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رب خويش نزديك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1760" y="4932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áoå¿âw ØËá®ãpÒâW åÉF áÑ</a:t>
            </a:r>
            <a:br>
              <a:rPr sz="6600"/>
            </a:br>
            <a:br>
              <a:rPr sz="3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½áoå¾ãl ØËáÇãÏåÃâW åÉ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پاسگذاريت را بر من روز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خود را به من الها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°ã¢Cg áÁBKâs áÀâÂGåsF ØëÊH  éÈâÏäÃÂB</a:t>
            </a:r>
            <a:br>
              <a:rPr sz="6600"/>
            </a:b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è°ãwCg</a:t>
            </a:r>
            <a:r>
              <a:rPr b="1" lang="fa-IR" sz="66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ÄëÂámáXâÆ</a:t>
            </a: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درخو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خص فروتن خوار ترس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ËáÃá¯å`áW áÑ ,ØËáÇácåoáW áÑ ØËádãÆCátâW åÉF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¯ãÊCº æC×ã¢Bán áÀãÇåtã»ãQ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آسان گيرى و به من رح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مرا به آ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يم قسم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راضى و قانعم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.æC¯ã¢BÒáXâÆ ãÁBáÒåcÛB ã°×ãÇá_ Ø¶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تمام حالات فروت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4520" y="1212840"/>
            <a:ext cx="92455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âÐâXáºC¶ åVékáXåwH åÌáÆ áÁBKâs áÀâÂGåsF áÑ éÈâÏäÃ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 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سخت فقير و بى چيز شده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80" y="40464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Èâ«á® áÑ âÐáXá_Cc ãkãMBk~~~~~~~éxÂB ákåËã® áÀãQ áÁáqåÊF áÑ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âÐâXáRå²án  á½ákåËã® CÇ×¶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60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واسته اش را هنگام سختيها پيش تو آورده و اميدش بدا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 تو است بسيار بزرگ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Yá¯ãsáÑ ØXéÂB áÀãXáÇåcáoãQ áÀâÂGsF ØëÊHéÈâÏäÃÂB</a:t>
            </a:r>
            <a:br>
              <a:rPr sz="66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AØáw éÄâ¾</a:t>
            </a:r>
            <a:br>
              <a:rPr sz="6600"/>
            </a:br>
            <a:br>
              <a:rPr sz="6000"/>
            </a:br>
            <a:br>
              <a:rPr sz="3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از تو مى خواهم بحق آن رحم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را فرا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6361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âÊC¿áÆ Úá® áÑ ,áÀâÊC§åÃâs áÈâ«á® éÈâÏäÃÂB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سلطنت و پادشاهيت بس بزرگ 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قامت بسى بلند است</a:t>
            </a:r>
            <a:br>
              <a:rPr sz="4400"/>
            </a:br>
            <a:br>
              <a:rPr sz="5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SáÃá² áÑ ,á½âoåÆF áoáÏáª áÑ ,á½âoå¿áÆ áØã·ág áÑ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 و تدبيرت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 پنهان و امر و </a:t>
            </a:r>
            <a:br>
              <a:rPr sz="46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نت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شكار است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âÌã¿åÇâÖ Ù áÑ ,áÀâWánåkâº åVáoá_ áÑ ,á½âoåÏáº</a:t>
            </a:r>
            <a:br>
              <a:rPr sz="64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4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.áÀãXáÆÒâ¿âc åÌãÆ ânBáoã·ÂB</a:t>
            </a:r>
            <a:br>
              <a:rPr sz="6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هرت غالب و قدرت و نيرويت نافذ است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يز از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ت حكومت تو ممكن نيست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,æBoã¶C² ØãQÒâÊâmãÂ âkã_F Ù ÈâÏäÃÂBé</a:t>
            </a:r>
            <a:br>
              <a:rPr sz="6000"/>
            </a:b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BoãWCs ØãdãMCRá»ãÂ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br>
              <a:rPr sz="3600"/>
            </a:br>
            <a:br>
              <a:rPr sz="36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نيابم براى گناهانم آمرزنده اى و نه برا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زشتم پرده پوشى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ãÌátádÂCãQ ãe~~~~×ãRá»ÂB ØãÃáÇá® åÌãÆ èAØáxãÂ Ù áÑ</a:t>
            </a:r>
            <a:br>
              <a:rPr sz="6400"/>
            </a:br>
            <a:br>
              <a:rPr sz="25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½áoå×á² æÙëkáRâÆ</a:t>
            </a:r>
            <a:br>
              <a:rPr sz="64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ه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مل زشت مرا به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نيك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بديل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جز تو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½ãkåÇádãQ áÑ áÀáÊCdåRâs ,áYåÊF ÙH áÐÂH Ù</a:t>
            </a: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ست معبودى جز تو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زهى تو و به حمد تو مشغو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ØãÃåÏá`ãQ âVFéoá`áW áÑ</a:t>
            </a:r>
            <a:r>
              <a:rPr b="1" lang="fa-IR" sz="72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Ø~~ãtå·áÊ âYåÇáÃáª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ه خويشتن ستم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اثر نادانيم دلير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 á½ãoå¾ãl ãÈÖãkáº ÔÂH âYåËá¿ás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éØáÃá® áÀëËáÆ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ينكه هميشه از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يم به ياد من بوده وبر من لطف و بخشش داشتى آسوده خاطر نشست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èe×ãRáº åÌãÆ åÈá¾ ,áÕÙåÒáÆ éÈ~~~~~~~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خدا اى مولاى من چه بسيار زشتيه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پوشاند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ÃáºF ãAÚáRÂB áÌãÆ èbãjCá¶ åÌãÆ åÈá¾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00"/>
                </a:solidFill>
                <a:latin typeface="Karbala"/>
                <a:cs typeface="Arial"/>
              </a:rPr>
              <a:t>و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بسيار بلاهاى سنگين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بازگرداندى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990612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áÑ ,AØáw éÄâ¾ CÏãQ áVåoáÏáº ØXéÂB áÀãWéÒâ»ãQ áÑ</a:t>
            </a:r>
            <a:br>
              <a:rPr sz="6400"/>
            </a:br>
            <a:br>
              <a:rPr sz="20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,AØáw êÄâ¾ CÏáÂ éÁál áÑ ,AØáw êÄâ¾ CÏáÂ á°á£ág</a:t>
            </a:r>
            <a:br>
              <a:rPr sz="5400"/>
            </a:br>
            <a:br>
              <a:rPr sz="54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نيرو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همه چيز را بوسيله آن مقهو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ي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در برابر آن خاضع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در پيش آن خوار است</a:t>
            </a:r>
            <a:br>
              <a:rPr sz="4000"/>
            </a:b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1760" y="121284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âÐáXå¯á¶áj èÍÑâoå¿áÆ åÌãÆ åÈá¾ áÑ ,âÐáXå×áºáÑ ènCá\ã® åÌãÆ åÈá¾ áÑ</a:t>
            </a:r>
            <a:br>
              <a:rPr sz="55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لغزشها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آن نگهم داشتى و چه بسيار ناراحتيها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دور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â æÚåÎF âYåtáÂ èÄ×ãÇá_ èACËá[ åÌãÆ åÈá¾ áÑ </a:t>
            </a:r>
            <a:br>
              <a:rPr sz="58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800"/>
            </a:b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.âÐáWåoáxáÊ ÐáÂ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مدح و ثناى خوبى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ن شايسته اش نبودم و تو آن را منتشر ساختى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160" y="475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AÒâs åØãQ á¦áoå¶F áÑ ,ØãMÚáQ áÈâ«á® éÈâÏäÃÂB</a:t>
            </a:r>
            <a:br>
              <a:rPr sz="5400"/>
            </a:b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ØãÂCc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لاى من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ى بزرگ است و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ى حالم از حد گذشته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ká¯áº áÑ ,ØãÂCáÇå®F åØãQ åVáoâ|áº áÑ </a:t>
            </a:r>
            <a:br>
              <a:rPr sz="6000"/>
            </a:br>
            <a:br>
              <a:rPr sz="29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Úå²F ØãQ 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8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عمالم نارسا است و زنجيرهاى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يق مرا خانه نشي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160" y="304920"/>
            <a:ext cx="94104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ãÂCÆD âkå¯âQ Øã¯å·áÊ åÌá® ØãËátáRác áÑ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4500"/>
            </a:br>
            <a:r>
              <a:rPr b="0" lang="en-GB" sz="4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آرزوهاى دور و دراز مرا از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سيدن به منافعم بازداشت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tå·áÊ áÑ ,CÎãnÑâoâ³ãQ C×åÊêkÂB åØãËåXá®ákág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ØãÂC§ãÆ áÑ ,CÏãXáÊC×ãh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نيا با ظواهر فريبنده اش مرا گول زد و نفسم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جنايتش و به مسامحه گذران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åÉF ,áÀãWéqã¯ãQ áÀâÃáNåsGá¶ ,Õãkë×~~~á~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ÂCá¯ã¶ áÑ ØãÃáÇá® âAÒâs ØãMC®âj áÀåËá® áSâ`ådá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پس از تو مى خواهم به عزت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ى رفتار و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ار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 از اجابتت جلوگيرى نكن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¯áÃé¦B CÆ ëØã·áhãQ ØãËådá£å·áW Ù áÑ</a:t>
            </a:r>
            <a:br>
              <a:rPr sz="6000"/>
            </a:br>
            <a:r>
              <a:rPr b="0" lang="en-GB" sz="25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ãs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ãÆ ãÐå×áÃá®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رسوا نكنى مرا به آنچه از اسرار پنهان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60200" y="0"/>
            <a:ext cx="9905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âXåÃãÇá®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CÆ ÔáÃá® ãUáQÒâ»â¯ÂCãQ ØãËåÃã_Cá¯âW Ù áÑ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ØãWáAC~~~~~sH áÑ ØãÃå¯ã¶ ãAÒâs åÌ~~~ã~Æ ,ØãWBÒáÃág Øã¶ 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تاب نكنى در عقوبتم براى رفتار بد و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بدى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خلوت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جام داد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ÂCÏá_ áÑ Øã§Öãoå·áW ãÅBÑáj áÑ </a:t>
            </a:r>
            <a:br>
              <a:rPr sz="6000"/>
            </a:br>
            <a:r>
              <a:rPr b="1" lang="en-GB" sz="29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áÃå·á²  áÑ ØãWBÒáÏ~~~á~w ãTáoå\á¾ áÑ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ff33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دامه دادنم به تقصير و نادانى و زيادى شهوت رانى و بى خبري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èAØáw éÄâ¾ CÏãQ áYåRáÃá²  Ø~~ãXéÂB áÀãWÑâoáRá`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بروت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وسيله آن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ره گش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ÁBáÒåcÛB ëÄâ¾ Øã¶ ØãÂ áÀãWéqã¯ãQ éÈâÏäÃÂB ãÌâ¾ áÑ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¶Òâ§á® ãnÒâÆÛB ã°~~~×ãÇá_ Øã¶ éØáÃá® áÑ ,æC¶ÑâJán</a:t>
            </a:r>
            <a:br>
              <a:rPr sz="5400"/>
            </a:br>
            <a:br>
              <a:rPr sz="54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دايا به عزتت سوگند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تمام احوال نسبت به من مهربان باش و در تمام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ور بر من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طوفت فرما</a:t>
            </a:r>
            <a:br>
              <a:rPr sz="4600"/>
            </a:b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¸~~åxá¾ âÐâÂGåsF á½âoå×á² ØãÂ åÌáÆ ØëQán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ÕãoåÆF Øã¶ áo~~~~~á«éËÂB áÑ ,Õëoâ¢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 اى پروردگار من جز تو </a:t>
            </a:r>
            <a:br>
              <a:rPr sz="4600"/>
            </a:b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سی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دارم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فع گرفتارى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جه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م را از او درخواست آنم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Yå¯áRéWH æCÇå¿âc éØáÃá® áYåÖáoå_F áÕÙåÒáÆ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tå·áÊ ÓáÒáÎ ãÐ×ã¶</a:t>
            </a:r>
            <a:br>
              <a:rPr sz="6000"/>
            </a:br>
            <a:br>
              <a:rPr sz="6000"/>
            </a:br>
            <a:r>
              <a:rPr b="0" lang="fa-IR" sz="4200" spc="-1" strike="noStrike">
                <a:solidFill>
                  <a:srgbClr val="000000"/>
                </a:solidFill>
                <a:latin typeface="Karbala"/>
                <a:cs typeface="Arial"/>
              </a:rPr>
              <a:t>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خداى من و اى مولاى من تو بر من حكمى را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رر داش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جراى آن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يرو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ى نفسم را آر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Ì~~~ãÆ ãÐ×ã¶ årãoáXåcF åÈáÂ áÑ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ÕêÑâk~~á~® ãÌ×ãÖåqáW</a:t>
            </a:r>
            <a:br>
              <a:rPr sz="6600"/>
            </a:br>
            <a:br>
              <a:rPr sz="6600"/>
            </a:br>
            <a:br>
              <a:rPr sz="54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فريبكارى دشمنم در اين باره نهراسيد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Âál ÔáÃá® âÍáká¯~~~~åsF áÑ ÓáÒåÎF CÇãQ ØãÊéoá³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AC£á»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و هم طبق دلخواه خويش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لم زد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قد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484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¤å¯áQ áÀãÂál åÌãÆ éØáÃá® Óáoá_ CÇãQ âVåpáÑC`áX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ãoãÆBáÑF á¤å¯áQ âYå·áÂCág áÑ ,á½ãjÑâkâc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 و در اثر همين ماجراى شو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سرم آمد نسبت به پاره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حدود و احكامت تجاوز آردم و در برخى از دستوراتت راه مخالفت را پيمو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áUé`âc Ù áÑ áÀãÂál ã°×ãÇá_ Øã¶ éØáÃá® âUé`âdÂB áÀáÃá¶ </a:t>
            </a:r>
            <a:br>
              <a:rPr sz="5600"/>
            </a:b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,á½âJC£áº ãÐ×ã¶ éØáÃá® Óáoá_ CÇ×ã¶ ØãÂ</a:t>
            </a:r>
            <a:br>
              <a:rPr sz="5600"/>
            </a:br>
            <a:br>
              <a:rPr sz="5400"/>
            </a:br>
            <a:br>
              <a:rPr sz="6000"/>
            </a:br>
            <a:br>
              <a:rPr sz="5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در تمام آنچه پيش آمده تو را ستايش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آنم و 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از حكم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 م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رى گشته و قضا و آزمايش ت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âJÚáQ áÑ áÀâÇå¿âc ØãËáÆáqåÂ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 بدان ملزم ساخته</a:t>
            </a:r>
            <a:r>
              <a:rPr b="0" lang="fa-IR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ت و برهانى ندارم</a:t>
            </a:r>
            <a:br>
              <a:rPr sz="4600"/>
            </a:br>
            <a:br>
              <a:rPr sz="60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Õão×ã|å»áW ákå¯áQ ØãÏÂH CÖ áÀâXå×áWF åkáº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ÆãjCáÊ æBnãmáXå¯âÆ ,Øãtå·áÊ ÔáÃá® Øã¶BáoåsH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ينك اى معبود من در حالى به درگاهت آمده ا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ا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ر خود زياده روى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وده</a:t>
            </a:r>
            <a:br>
              <a:rPr sz="4200"/>
            </a:br>
            <a:br>
              <a:rPr sz="4200"/>
            </a:b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Bëoã»âÆ ,æCRå×ãËâÆ ,æBoã·å³áXåtâÆ ,æÚ×ã»áXåtâÆ ,æBoãtá¿åËâÆ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ØëËãÆ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Cá¾ CéÇãÆ æBéoá·áÆ âkã_F Ù ,æC¶ãoáXå¯âÆ ,æCËã®åmâÆ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پشيمان و دل شكسته و پوزش جو و آمرزش طلب و بازگشت آنان و به گناه خويش اقرار و اذعان و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رم و راه گريزى از آنچه</a:t>
            </a: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çAØáw CÏáÂ âÅÒâ»áÖÙ ØãXéÂB áÀãWéqã¯ãQ áÑ</a:t>
            </a:r>
            <a:br>
              <a:rPr sz="6400"/>
            </a:br>
            <a:br>
              <a:rPr sz="64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عز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چيزى در برابرش نه ايست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108080"/>
            <a:ext cx="9906120" cy="56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ÕãoåÆF Øã¶ ãÐå×áÂH âÐé_áÒáWF æC®áqå·áÆ Ù áÑ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سر زده نيابم و پناهگ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ان ر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م د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خويش ندارم</a:t>
            </a:r>
            <a:br>
              <a:rPr sz="6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áÕCéÖH áÀãÂCágåjH áÑ ,Õãnåmâ® áÀãÂÒâRáº áoå×á²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.áÀãXáÇåcán åÌãÆ èUá¯ás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عذرم بپذيرى و مرا در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اخناى رحمتت درآو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â¢ áTékãw åÈácånB áÑ ,Õãnåmâ® åÄáRåºCá¶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ºC[ãÑ ëkáw åÌãÆ ØãËé¿â¶ áÑ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خداى من عذرم بپذي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سخت پريشاني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از بند سخت گناهانم رهائيم ده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Uéºãn áÑ ,ØãÊákáQ á¸å¯á¢ åÈácånB ëPán C~á~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Çå«á® áUéºãj áÑ ,ÕãkåÃã_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بر ناتوان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نم و ن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پوست تن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ريكى استخوانم رحم آ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ØãXá×ãQåoáW áÑ Õãoå¾ãl áÑ Øã»åÃág FákáQ åÌáÆ C~~Ö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غاز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به آفرينش من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اد من و بپرورش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ãÆáoá¾ ãABkãXåQãÙ ØãËåRáÎ ,ØãXáÖãmå³áW áÑ Õëo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Q á½ëoãQ ã¸ãÂCs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حسان و خوراك دادنم 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به همان بزرگوارى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 نخستت و سابقه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داشتى مرا ببخ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Qëmá¯âÆ á½BáoâWF ,ØëQán áÑ Õãkë×ás áÑ ØãÏÂH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بود من و اى آقاى من و اى پروردگارم آيا تو به راستى چنانى آه مرا ب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Ãá® ÓÒá§åÊB CÆákå¯ãQ áÑ ,á½ãk×ãcåÒáW ákå¯áQ á½ãnCáËãQ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4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عذاب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r>
              <a:rPr b="1" lang="en-GB" sz="4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گانگي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ØãÊCtãÂ ãÐãQ áaãÏáÂ áÑ ,áÀãXá¶ãoå¯áÆ åÌãÆ ØRåÃáº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قرار دارم و دلم به نور معرفتت آباد گشته و زبانم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ëRâc  åÌãÆ Õão×ãÇá¢ âÍáká»áXå®B áÑ ,á½ãoå¾ãl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ذ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 گويا شد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هادم به دوستى تو پيوند شده 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éÄâ¾ åVÜáÆ Ø~~~~~~ãXéÂB áÀãXáÇá«á¯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عظمت و بزرگ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¯ã¢Cg ,ØãMC®âj áÑ Øã¶BoãX®B ã¹åkã{ ákå¯á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áXé×ãQÒâQâoãÂ</a:t>
            </a:r>
            <a:br>
              <a:rPr sz="6000"/>
            </a:br>
            <a:br>
              <a:rPr sz="60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عتراف صادقانه و دعاى خاضعانه ام به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م بنده پرورى و ربوبيت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°ë×á£âW åÉF åÌãÆ âÅáoå¾F áY~~å~ÊF ,áVCÏå×áÎ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×éQán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بزرگوارتر از آ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نظر دور دارى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,âÐ~~~á~XåÖáÑD ÌáÆ ájëoáxâW åÑF ,âÐáXå×áÊåjF åÌáÆ ákë¯áRâW åÑ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دور گردا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نزديك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âÐáXå×á·á¾ åÌáÆ ãAÚáRÂB ÔáÂH áÈëÃátâW åÑF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ÐáXåÇãc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تسليم بلا و گرفت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سرپرس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ه لطف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ÕÙåÒáÆ áÑ ØãÏÂH áÑ Õãkë×ás CÖ Õãoå¯ãw áYå×áÂáÑ</a:t>
            </a:r>
            <a:br>
              <a:rPr sz="5500"/>
            </a:br>
            <a:br>
              <a:rPr sz="2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áÀãXáÇá«á¯ãÂ åVéo~~á~g èÍÒ~~â_âÑ ÔÃá® ánCéËÂB â¨ëÃátâWF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ستم اى آقا و معبود و مولاي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يا چيره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آتش دوزخ را ب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ره ه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ظم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Yá»á§áÊ èÌ~â~tÂF Ô~~~á~Ãá® áÑ ,æTákã_C~~~~~á~s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Ñ ,æUácãjCÆ á½ãoå¿ãxâQ áÑ ,æUáºãjC{ á½ãk×ãcåÒáX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سجده افتاده و بر زبان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صادقانه به يگانگيت گويا شده و سپاسگزارانه به شكرت ب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ده و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áÑ ,æUá»ë»ádâÆ áÀãXé×ãÏÂIãQ åYá¶áoáXå®B èPåÒâÃâº ÔáÃá®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ل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روى يقين به خدائي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 آرده اند و ب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2520" y="-824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nCá{ ÔéXác ,áÀãQ ãÈåÃã¯ÂB áÌãÆ åVáÒác áoãMCÇá¢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اد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و معرفتت آنها را فرا گرفته تا به ج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1760" y="6361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áÂH åYá¯~~~á~s ábãnBáÒá_ ÔÃá® áÑ ,æUá¯ãwCg</a:t>
            </a:r>
            <a:br>
              <a:rPr sz="5400"/>
            </a:br>
            <a:r>
              <a:rPr b="1" lang="en-GB" sz="2100" spc="-1" strike="noStrike">
                <a:solidFill>
                  <a:srgbClr val="000099"/>
                </a:solidFill>
                <a:latin typeface="Karbala"/>
              </a:rPr>
              <a:t> å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VánC~~wF áÑ ,æUá¯ãMC¦ á½ãkêRá¯áW ãÉC¦åÑF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GB" sz="3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اشع گشته و بر اعضاء و جوارحى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اقانه و با حال اقرار به گناه</a:t>
            </a:r>
            <a:br>
              <a:rPr sz="4600"/>
            </a:br>
            <a:br>
              <a:rPr sz="46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99"/>
                </a:solidFill>
                <a:latin typeface="Karbala"/>
              </a:rPr>
              <a:t>,æUáËã®åmâÆ á½ãnC·å³ãX~å~sCãQ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ياى آمرزش تو هستن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êÄâ¾ Úá® ÕãméÂB áÀãÊCá§åÃâtãQ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سلطنت و پادشاه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هر چيز برترى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176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Ãå£á·ãQ CÊåoãRågâF Ù áÑ ,áÀãQ êÌé«ÂB Bmá¿Î C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ÈåÖãoá¾ CÖ ,áÀåËá®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نين گمانى به تو نيست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تو چنين خبر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ما نرسيده اى خد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ي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åÌãÆ èÄ×ãÃáº åÌá® Øã·å¯á¢ âÈáÃå¯áW áYåÊF áÑ ëPán C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CÏ×ã¶ Õãoå`áÖ CÆ áÑ ,CÏãWCQåÒâ»â® áÑ C×åÊêkÂB ãAÚáQ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و تو ناتوانى مرا در مقابل ا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لاى دنيا و آيفرهاى ناچيز آن و ناملايما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عمولاً</a:t>
            </a:r>
            <a:br>
              <a:rPr sz="4600"/>
            </a:br>
            <a:br>
              <a:rPr sz="4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çAÚáQ áÀãÂl éÉF ÔÃá® ,CÏãÃåÎF ÔÃá® ãÍãnC¿áÇÂB áÌãÆ</a:t>
            </a:r>
            <a:br>
              <a:rPr sz="5400"/>
            </a:br>
            <a:br>
              <a:rPr sz="1300"/>
            </a:br>
            <a:r>
              <a:rPr b="1" lang="en-GB" sz="13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âÐâWékâÆ ço×|áº ,âÍJC»áQ ço×ãtáÖ ,âÐâ\å¿áÆ çÄ×ãÃáº ,çÍÑâoå¿áÆ áÑ</a:t>
            </a:r>
            <a:br>
              <a:rPr sz="5400"/>
            </a:br>
            <a:br>
              <a:rPr sz="13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اهل آن مى رسد مى دانى در صور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لا و ناراحتى دوام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 است و دورانش اندك و مدت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 است</a:t>
            </a:r>
            <a:br>
              <a:rPr sz="4600"/>
            </a:br>
            <a:br>
              <a:rPr sz="54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Ä×ãÃá_ áÑ ,ãTáoãgÝB ãAÚáRãÂ ØãÂCÇãXåcB á¸å×á¿á¶</a:t>
            </a:r>
            <a:br>
              <a:rPr sz="6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000"/>
            </a:b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WékâÆ</a:t>
            </a: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§áW çAÚáQ áÒâÎ áÑ ,CÏ×ã¶ ãÍãnC¿áÇÂB ãÒâºâ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تاب تحمل بلاى آخرت و آن ناملايم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زرگ را در آنجا دارم در صورتى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 بل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تش طول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152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® â¸é·áhâÖ ÙáÑ ,âÐâÆC»áÆ âÅÑâkáÖ áÑ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وامش هميشگى است و تخفيفى برا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ãRá£á² åÌá® ÙH âÉÒâ¿áÖ Ù âÐéÊÛ ,ãÐãÃåÎF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تلايان به آن نيست زيرا آن بلا 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شم 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áÂ âÅÒâ»áW Ù CÆ BmÎ áÑ ,áÀã§áhás áÑ áÀãÆC»ãXåÊB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â¡ånÛB áÑ âVBÑCÇét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تقام و غضب تو سرچشمه گرفته و آن هم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ى است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سمانها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زمی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ب تحمل آن را ندارند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2228b"/>
                </a:solidFill>
                <a:latin typeface="Karbala"/>
              </a:rPr>
              <a:t>â</a:t>
            </a:r>
            <a:r>
              <a:rPr b="1" lang="en-GB" sz="6000" spc="-1" strike="noStrike">
                <a:solidFill>
                  <a:srgbClr val="22228b"/>
                </a:solidFill>
                <a:latin typeface="Karbala"/>
              </a:rPr>
              <a:t>¸×ã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¯é£ÂB á½âkåRá® CÊF áÑ ØãQ á¸å×á¿á¶ ,Õãkë×á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Ì×ã¿áXåtâÇÂB ,âÌ×ã¿åtãÇÂB ,âo×ã»ádÂB âÄ×ãÂém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تا چه رسد به من بنده ناتو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ا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چي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ستم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چاره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52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ë ,áÕÙåÒáÆ áÑ Õãkë×ás áÑ ØëQán áÑ ØãÏÂH C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و پروردگار و آقا و مولا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43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åËãÆ CÇãÂ áÑ ,Òâ¿åwF áÀå×áÂH ãnÒâÆÛB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Õ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¿åQFá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êaã¢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گرفتاريهايم به تو شكاي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و 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آنها شيون و گري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ëÄâ¾ ãACËá¶ ák~~~~å¯áQ ØãºCRÂB áÀãÏå_áÒ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ذات پ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س از ناب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چي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قى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189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ãAÚáRÂB ãÁÒâ§ãÂ åÅF ,ãÐãWékãw áÑ ãPBmá¯ÂB ãÈ×ãÂ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ãÐãWékâÆ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ى عذاب دردناك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خت يا برا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اى طولانى و مدي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ÀãMBkå®F á°áÆ ãVCQÒâ»â¯åÃãÂ ØãËáWåoé×á{ åÌãNáÃá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áYåºéoá¶ áÑ ,áÀãMÚáQ ãÄåÎF áÌå×áQ áÑ ØãËå×áQ  áYå¯áÇá_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30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گر بنا شود مرا بخاطر 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يم در زمره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اندازى و مرا با گرفتاران در بلا و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ذابت در يكجا گرد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ى و جدايى اندازى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0160" y="-2736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ØãËåRáÏá¶ ,áÀãMC×ãÂåÑF áÑ áÀãMCéRãcF áÌå×áQ áÑ ØãËå×á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âVåoáRá{ ,ØëQán áÑ áÕÙåÒáÆ áÑ Õãkë×ás áÑ ØãÏÂH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يان من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ستانت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و آقا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لا و پروردگارم من صب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یی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ºBoã¶ ÔÃá® âoãRå{F á¸å×á¿á¶ ,áÀãQBámá® ÔÃá®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عذاب ت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ما چگونه بر دورى از تو طاقت آورم</a:t>
            </a:r>
            <a:br>
              <a:rPr sz="4200"/>
            </a:b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¿á¶ ,á½ãnCÊ ëoác ÔÃá® âVåoáRá{ ØãËåRáÎ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ارت آتش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تحمل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اما چگون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53172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áÀãXáÆBoá¾ ÔÂB ão~á~«éËÂB ãÌá® âoãRå{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½âÒå·á® ØãMC_án áÑ ãnCéËÂB Øã¶ âÌâ¿ås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شم پوشيدن از بزرگواريت را بر خود هموار ساز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بمانم با اينكه اميد عفو تو را دا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ºãjC{ âÈãtåºâF ,áÕÙåÒáÆ áÑ Õãkë×ás CÖ áÀãWéqã¯ãRá¶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ãÃåÎF áÌå×áQ áÀå×áÂH éÌé`ã¢Û ,æC»ã¦CÊ ØãËáXå¾áoáW åÌãNáÂ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به عزتت سوگند اى آقا و مولاى من براس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وگند مى خور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گ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بانم را در آنجا باز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ذارى حتماً در ميان دوزخ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fBoâ{ áÀå×áÂH éÌá~~gâoå{Û áÑ ,áÌå×ãÃãÆÝB áaå×ã`á¢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را بسويت سر ده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چو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اشخاص آرزومن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137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AC~~~~~~á¿âQ áÀå×áÃá® éÌá×ã¿åQÛ áÑ ,áÌ×ãgãoå|áX~~~åtâÇ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ºC·ÂB</a:t>
            </a:r>
            <a:br>
              <a:rPr sz="60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درگاهت فرياد برآرم و قطعاً مانند عزيز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مگشتگ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ورى تو گريه و ز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ËãÆåKâÇÂB éØãÂáÑ CÖ ,áYåËâ¾ áÌåÖF áÀéËáÖãjCÊâÛ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 صداى بلند تو را مى خوانم و مى گويم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يى اى يار و نگهدار مؤ منان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2:49:33Z</dcterms:created>
  <dc:creator/>
  <dc:description/>
  <dc:language>en-US</dc:language>
  <cp:lastModifiedBy>Seyed Mohammad Kazem Motallebi</cp:lastModifiedBy>
  <dcterms:modified xsi:type="dcterms:W3CDTF">2008-02-04T08:27:31Z</dcterms:modified>
  <cp:revision>139</cp:revision>
  <dc:subject/>
  <dc:title>Dua e Kumail</dc:title>
</cp:coreProperties>
</file>