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907588" cy="6858000"/>
  <p:notesSz cx="6858000" cy="9144000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A705-547F-4206-B9EC-15601668BC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B03-72DB-40A1-B0C9-6B7EC24E0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895A-F07F-4511-8606-B8D7391EBA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4AE1-DDFB-4832-9274-9104A5871C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ACCA-B260-4C95-A199-8A9CE21071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C678-3322-4658-8044-E5FA3DEE5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39C1-E465-42AD-909C-F3F65B53A8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B32-2386-4317-A203-D50C7585B9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140C-6411-4B4D-B075-BA1539E84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8AA-5484-4BA0-BDF4-52A39015F4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B3C-5E93-4987-9AD5-5FBBB8111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B47-A1AD-4D5C-BFDC-92609B3F94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0B7-EA4A-495E-81A8-63D45F883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FE23-4324-4066-83B3-DBF204A308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133C-59A3-44C3-9E3E-89ABD23C3B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AEF7-01BB-4CA9-B703-BE0B0A6B57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D84-E353-411F-B4BD-24F469F443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5CE1-B037-4D21-B9DB-05CB15005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015E-D80F-40D6-AD68-C8483E991B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384D-B042-4A03-B012-058409583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E44-DA69-401F-BC4F-DCBBA1978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3C1-1F28-40F0-AE17-23EE9B9D7C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17DF-44DB-4E8C-BAFC-DD6CDA4979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C573-838B-4AD0-833F-C7E9DD20E3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D0CB-D190-4058-85C3-EB0EFE23F3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DD86-6B91-4371-94C3-03CA0BE127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B362-1718-4FFC-8344-27117736EF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97EF-2F5B-465E-B8BC-DB7979B60D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1F08-CD8D-4092-BE29-4CB94BB232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35A-D79E-41CC-9AEE-B912B9F105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A908-0335-49E6-9461-9BDB82F985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86D-5D27-4DF0-B55E-C357A8C577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4D4-E39E-4CE8-A522-C50A8D15C8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A43-0F7C-456D-89E9-3BAA0D5A4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487B-8ACC-4373-84B6-AD844725B0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1988-9219-4F1D-A9F3-F47E140EAD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93A3-7F90-4D57-B0E0-FE1E990F8E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C349-F405-454B-83F1-049819C17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50E-FF63-4FC9-842F-EFA0EDAE4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5E26-22A9-4B93-BAD1-3D85D98EE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9594-41B3-4E40-9A17-541D0B18C8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CEE-135A-4E70-A77D-233A08C550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DD06-BBBB-4D72-9278-0B5560E7AA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B11C-2919-4B37-AE17-630CAA3F5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0C7-C41E-4062-89B9-9E2DA44A0C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31E1-D8B2-4DE0-8E8A-A78E065491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EECB-E8DA-44F1-85B4-719436BC5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AF5D-E6AB-4733-A55C-10E1C9EAF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A627-3E9E-478D-9873-839FEC2764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77F-9A98-4EBC-82B1-DBD05B767E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877-9A40-4958-8001-A47D54C38A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F6D-396B-4C02-A40A-EFC204D122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394B-19C2-4DDA-890A-6C0F0B8D1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7CE-0A05-4920-A067-8645E5A00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A1A-D53F-4154-AD74-8A0913BD7D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02F-4926-4E00-B652-EC8B4DF4D2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03F4-F45F-4056-A89A-14F597EDED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8FFF-B919-4CB7-B62B-E05A55776F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87BF-99BA-432C-9D96-C588200A09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064D-833E-48D9-A1FC-688AD79A07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1364-B893-4BAB-9F97-A456D4F795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800A-C109-4B6F-AC6F-F87290C3E5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FB86-6DAF-49E0-B044-1FD5903D0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5190-AEA8-44A2-BED8-965C104492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1124-56EE-4546-8AEB-B7990DF5C8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9D47-41A2-40A2-AB4A-2B078D770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477C-F31D-4D83-B043-CD584EF8F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B7A1-1E9D-44E3-B5CE-80562D4A8D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C5B-885A-4863-882B-20DC381955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35CF-D7D2-4C5C-8646-9CAB81D8F0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0889-3D79-49C6-8F42-240EE7B09C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59E5-F654-41FF-8BDC-840C7A0546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D14E-A4F9-4380-ABB4-CC6D3D220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F2CB-1274-4EB0-9948-39A95380C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DAF-F7CF-436C-AAF7-E5013E6070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C9E-2FB3-40FB-8D32-EEEB2391E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F0B5-1ABA-4849-9C1F-F25AE04C7F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C797-8A3F-4412-A15E-D7A6A38DD4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973C-27F2-497E-BAD8-D92E49FE13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76F8-7FC0-44CA-A119-F0FC7554D3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5BD2-AE42-4AA5-B6A0-A0BF82BE50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AEF-9E3C-41E6-9500-42C85A571F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C5B5-09E0-4408-8810-5352CD3191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354-A1D1-4A72-A090-2893304932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741E-F311-49F0-A037-89798FCE5F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909D-10F4-46C6-9C1C-BC8EACC2AE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3522-63E1-4CC2-BD26-4F1EAB7160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511-05BA-4EE2-97D2-977AE4ADEA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3632-E32A-40E2-A9F3-9BE72A85E3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069C-D649-4227-AB50-9D10C1372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365-87B9-4D33-913A-704412377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F70-85F4-4510-8EE9-DAF82C1FE0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3D25-A450-437F-AED2-A2261C27D6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0B47-8FD0-45B3-A602-AAB9A8BCD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105-2BDD-47CA-A0E6-553B473FBE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7717-033B-446D-AE12-15DD2A7C3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920D-45E0-4B45-AD7E-5F45392B16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EA98-888B-4075-94B3-2FDFD2B3B5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3759-9CDD-4483-B140-349495637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FE2E-3D1E-48B2-8D99-EB3524ACF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CD5B-F528-41C0-B8E4-D00159FBCC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FAE-0897-4EA1-8AE2-F5FA3F8F51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FB7D-90BB-4D5B-9AAA-8894021379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20E-E8B4-4FD8-B950-23FBD9A233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2F5-BAD5-4865-878F-7D269CF8E5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53BB-4C2E-429A-9A82-6FCF936CC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C863-3EBE-44EE-837E-1B73D1EE4E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7F20-2949-452B-8C1E-8A09E64B34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108C-C52B-4E1B-9B80-0E117E5714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ED6-9FBD-43D9-984A-880D31BF51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100-5C0F-4E38-A6CE-90EBB34AD6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C735-B7AF-4EDF-9D0A-17FD4B3CE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DB44-F1D5-4E41-82FA-B1C2F3B473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36AB-68BC-459B-AEE0-D2DE2D981B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9B51-FD47-4C31-A819-B56CBC9D77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0FE-3AB3-4C0E-B0C9-74C03548B0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672-A2E8-4F67-A6DB-C593F56E61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EA1-4AC7-493B-8A20-D5F9FCD897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D061-4CB6-420D-A175-0DAB6B2197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5C68-64BE-4337-BA83-4DCFFE4F46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9CB0-9B8A-462F-81B1-E8E30F5FBD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5BA7-D0AE-4977-A3AB-12DB3F4E4D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204-5A3E-4BD8-B327-D34F90810A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F511-37FE-4AEC-9B92-055C813D8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8FF0-2858-4D78-A36B-CEEE23B553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781E-80A2-4E20-8466-D6E613CA3B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C72-0995-482C-840F-22E3385C3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A291-0B60-4819-95D4-9AAF114D8A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FD71-5B9A-4B2F-B1FB-83D4927568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35BC-0355-45E2-A306-BA42341496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14CA-E5E5-4F35-BA30-7A742595FC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80D-E8F7-4483-874C-D1840B9A49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CA76-63DB-4FD9-840C-CF5DE18ABC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817-5A0A-4B1C-B04F-342D6F541C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0FA3-FDF2-4F17-8958-72E05C3FC2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BF7-9C3C-47E2-8BDC-3B895CE3E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955-AE17-493C-A946-2A4D1C91F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6243-F82D-4D21-AC8B-17C14AD7A2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950F-93B0-4080-9CD5-DB5BE07B5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582-0B73-40DA-8DCA-4731B254A7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7723-D477-4F87-BEB9-0743FCE58F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A9E9-89BC-4D18-A80B-AE968660DD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280D-4B21-4159-AA9D-8831C9A5D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7B17-C147-46F8-8B97-339B45057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EC16-D9F9-4290-98FD-6FF3AA3807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DBE-6E6B-45E5-A0DA-34196F5D4B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AED-AF9D-40C4-9887-7C60C19D2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B844-B8FA-44C5-AECC-03E41CD0E6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D9F5-A414-43B9-A0A8-F33EBD8B8F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DD79-80E4-462E-9D5A-A8A4280F8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C446-2DE7-4E6F-B35D-0898B09F3D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BF8-7094-4906-B691-2FDFF8E278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C7A-6EAA-414E-8171-3A2D2EEB1C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F7F-C0C0-488D-9369-38808D13A2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E69C-F0FB-4048-B1AA-43311AE3D1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81CA-711F-4AC6-B2D9-7E583B561D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A96-10C8-43B1-BD3A-59664A8863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582-2F7E-4C68-AD29-A117486F5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2020-C5F1-45F4-AC74-FEBCABDF49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570C-A1EF-4E95-BAF5-E2F9509210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F0B8-4328-4BBE-A70C-08A82EADE1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391-6E3D-4DE8-8C2C-7C0AA72639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21CD-C4C1-4625-A59E-346BAE3925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ECBC-6AF8-444D-A4DE-4C5086FD22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3F4C-D7CB-4BC3-8DBF-2FEC943F87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3BA-7B16-4859-9288-F6321FE82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023B-47AC-4C8D-9F01-DCF63B9F98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4076-08D2-4159-BB86-6D9BB958B3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5731-0A81-4679-AAFC-19E7D117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6C28-79EC-48F3-995A-081B7EE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4E8B-CCE8-46E9-8543-D80F883FD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A264-D577-4952-BA49-FA44B178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AE6F4-0EF7-49CA-9FF4-B269B8FE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66A3-73DE-486D-BDFB-F2C6646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5DEA-341B-4237-BB3F-2CD18821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2520" y="7957800"/>
            <a:ext cx="9410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AB1B-7F04-413E-975D-D76993E4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202F-E1E0-4EBD-8A7F-D0EFFD73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A995-9E23-4012-B847-258F1750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B6B3-FA2D-4470-87D4-B1981953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A7F-5DE2-41CB-92E1-8E2F8D9DF1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89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2" descr="komail banner"/>
          <p:cNvPicPr/>
          <p:nvPr/>
        </p:nvPicPr>
        <p:blipFill>
          <a:blip r:embed="rId3"/>
          <a:stretch/>
        </p:blipFill>
        <p:spPr>
          <a:xfrm>
            <a:off x="0" y="6194520"/>
            <a:ext cx="9906120" cy="76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madinah.jpg"/>
          <p:cNvPicPr/>
          <p:nvPr/>
        </p:nvPicPr>
        <p:blipFill>
          <a:blip r:embed="rId1"/>
          <a:stretch/>
        </p:blipFill>
        <p:spPr>
          <a:xfrm>
            <a:off x="0" y="-44280"/>
            <a:ext cx="9906120" cy="7000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998800" y="262080"/>
            <a:ext cx="36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ی کمیل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AØáw ëÄâ¾ áÉC¾ånF åVÜáÆ ØãXéÂB áÀãMCÇåsG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امهاى مقد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ساس هر موجودى را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áÌ×ã¶ãnC¯ÂB ãÁCÆD áUáÖC²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نتهاى آرمان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رف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\å×ã³áXåtâÇÂB ZC×ã² CÖ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0" lang="fa-IR" sz="72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يادرس درماندگان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,áÌ×ãºãjCé|ÂB ãPÒâÃâº áSå×ãRác CÖ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br>
              <a:rPr sz="7200"/>
            </a:br>
            <a:br>
              <a:rPr sz="4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حبوب دل راستگوي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áÌ×ãÇáÂC¯ÂB áÐÂH CÖ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fa-IR" sz="4500" spc="-1" strike="noStrike">
                <a:solidFill>
                  <a:srgbClr val="000000"/>
                </a:solidFill>
                <a:latin typeface="Karbala"/>
                <a:cs typeface="Arial"/>
              </a:rPr>
              <a:t>ای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يران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عالميا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76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½ãkåÇádãQ áÑ ØãÏÂH CÖ áÀáÊCdåRâs á½BoâXá¶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 áÌã`âs èÈãÃåtâÆ èk~åRá® áVåÒá{ CÏå×ã¶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ستى چنان مى بينى اى منزه و معبود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ستايشت مشغو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شنوى در آن آتش صداى بنده مسلم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ث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ãÐãXá×ã|å¯áÇãQ CÏãQBmá® áÈå¯á¦ á¹Bl áÑ ,ãÐãXá·áÂChâÇ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ãÐãWáoåÖãoá_ áÑ ãÐãÆåoâ`ãQ CÏãºCRå¦F áÌå×áQ áuãRâc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ت دوزخ به واسطه جرم و جنايت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فتار شده</a:t>
            </a:r>
            <a:r>
              <a:rPr b="1" lang="fa-IR" sz="5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لفتش در آنجا زندانى شده و مزه عذاب آتش را به خاطر نافرمانيش چشيده و در ميان</a:t>
            </a:r>
            <a:r>
              <a:rPr b="0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620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áÑ ,áÀãXáÇåcáoãÂ èÄëÆáKâÆ áaå×ã`á¢ áÀå×áÂH êaã£áÖ áÒâÎ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½ãk×ãcåÒáW  ãÄåÎF ãÉCtãÃãQ áÀåÖãjCËâÖ</a:t>
            </a:r>
            <a:br>
              <a:rPr sz="5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,áÀãXé×ãQÒâQâoãQ áÀå×áÂH</a:t>
            </a:r>
            <a:r>
              <a:rPr b="0" lang="en-GB" sz="5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âÄésáÒáXáÖ áÑ</a:t>
            </a:r>
            <a:br>
              <a:rPr sz="5500"/>
            </a:br>
            <a:br>
              <a:rPr sz="5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آن حال به درگاهت شيو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شيون شخص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رزومند رحمت تو است و به زبان يگانه پرستان تو را فرياد زند و به بنده پروريت متوسل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ãPBmá¯ÂB Øã¶ Ô»åRáÖ á¸å×á¿á¶ áÕÙåÒáÆ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ÇåÃãc åÌãÆ á¸áÃás CÆ Òâ_åoáÖ</a:t>
            </a:r>
            <a:br>
              <a:rPr sz="6000"/>
            </a:br>
            <a:br>
              <a:rPr sz="60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ولاى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در عذاب بماند با اينكه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دبارى سابقه دارت چشم اميد دار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9320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áÃå£á¶ âÄâÆGÖ áÒâÎ áÑ ânCéËÂB âÐâÇãÂåKâW á¸å×á¾ åÅ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او را بيازارد با</a:t>
            </a:r>
            <a:br>
              <a:rPr sz="4200"/>
            </a:br>
            <a:r>
              <a:rPr b="1" lang="ar-S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كه آرزوى فضل و</a:t>
            </a:r>
            <a:br>
              <a:rPr sz="40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ÊF áÑ CáÏâRå×ãÏáÂ âÐâºãoådâÖ á¸å×á¾ åÅF ,áÀáXáÇåcán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âÐáÊC¿áÆ ÓoáW áÑ âÐáWåÒá{ â°áÇåt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ت تو را دارد يا چگونه شعله آتش او را بسوزا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صدايش را بشنوى و جايش را ببينى يا چگو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ëÄâ¿ãQ á¦CcF  Õãm~~~~é~ÂB áÀãÇåÃã¯ãQ áÑ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آن علم و دان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حاطه يافت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ÅF ,âÐá·å¯á¢ âÈáÃå¯áW áYåÊF áÑ CÎâo×ã¶áp ãÐå×áÃá® âÄãÇáXåxáÖ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áÃå¯áW áYåÊF áÑ CÏãºCRå¦F áÌå×áQ âÄá»åÃá»áXáÖ á¸å×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¾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ره هاى آتش او را دربرگير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توانيش 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 طبق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دست و پا زند با اينك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1760" y="0"/>
            <a:ext cx="9410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Î áÑ CÏâXá×ãÊCQáp âÍâoâ_åqáW á¸å×á¾ åÅF ,âÐáºåkã{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éQán CÖ áÀÖãjCËâÖ</a:t>
            </a:r>
            <a:br>
              <a:rPr sz="6000"/>
            </a:br>
            <a:br>
              <a:rPr sz="2900"/>
            </a:br>
            <a:br>
              <a:rPr sz="2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صدق و راستگوئيش را دانى ي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گو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ن دوزخ او را با تندى برانند با اينك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پروردگارى بخو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Ðá¾âoåXáXá¶ CÏåËãÆ ãÐã»åXã® Øã¶ áÀáÃå£á¶ Òâ_åoáÖ á¸å×á¾ åÅ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CÏå×ã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ممكن 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يد فضل تو را د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زادى خويش داشته باش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µÑâoå¯áÇÂB Ù áÑ ,áÀãQ âÌé~«ÂB áÀãÂl CÆ áVCÏå×áÎ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ى تو او را به حال خود واگذارى چ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يار از تو دور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Q áYå~ÃáÆC® CÇãÂ äÐãRåxâÆ Ù áÑ ,áÀãÃå£á¶ åÌã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ÀãÊCtåcH áÑ á½éoãQ åÌãÆ áÌÖãkëcáÒâÇÂB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نين گمانى به تو نيست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ضل تو اينسان معروف نيست و نه شباهت با رفتار تو نسبت به يگانه پرستان دارد با آن نيكى و احسا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252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ãÐãQ áYåÇá¿ác CÆ ÙåÒáÂ â°á§åºF ãÌ×ã»á×ÂCãR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سبت بدانها دارى و من بطور قطع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گر فرمان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jÚågH åÌãÆ ãÐãQ áYå×á£áº áÑ ,áÀÖãkãcC_ ãSÖãmå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عذب ساختن منكرانت صادر نشده بود و حك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و به هميشه ماندن در عذاب براى دشمنانت در کار نبود</a:t>
            </a: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æBjåoáQ CÏáÃâ¾ ánCéËÂB áYå~Ãá¯á`áÂ ,áÀÖãkãÊC¯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ماً آتش دوزخ را هر چه بود به تمامى سرد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æBéoá»áÆ CÏ×ã¶ èkácÛ áÉC¾ CÆ áÑ ,æCÆÚ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لم م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چكس در آن منز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áYåÇátåºF á½âJCÇåsF åYáséká»áW áÀéËã¿Â ,æCÆC»â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ا</a:t>
            </a:r>
            <a:r>
              <a:rPr b="1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ء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 نداشت ولى تو اى خد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مام نامها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س است سوگند يا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وزخ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AØáw êÄâ¾ âÐáÂ áAC¢F ÕãméÂB áÀãÏå_áÑ ãnÒâËãQ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نور ذا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وشن شد در پرتوش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rCéËÂB áÑ ãUéËã`ÂB áÌãÆ áÌÖãoã¶C¿ÂB áÌãÆ CÎÜåÇáW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ÊC¯âÇÂB CÏ×ã¶ ákëÃáhâW åÉF áÑ  ,áÌ×ã¯áÇå_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از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فران از پريان و آدميان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را براى هميشه در آن جا دهى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ÂéÒá§áW áÑ æCMãkáXåRâÆ áYåÃâº á½âJCËá[ éÄá_ áYåÊ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د ثنايت برجسته است د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بتداء بدون سابقه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Çá¾ æCËãÆåKâÆ áÉC¾ åÌáÇá¶F ,æCÆëoá¿áXâÆ ãÅC¯åÊßC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ÑâÒáXåtáÖ Ù æC»ãsC¶ áÉC¾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اين انعام از روى بزرگوارى تفضل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م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(آي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مؤمن است مان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ى است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ه فاسق است ؟ نه يكسان نيستن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äÂB ãTánåkâ»åÂCãQ áÀâÂGåsG¶ Õãkë×ás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CÏáWånék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،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حق آن نيروي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áÑ CÏáXåÇáXác ØãXäÂB ãUé×ã£á»ÂCãQ áÑ</a:t>
            </a:r>
            <a:br>
              <a:rPr sz="7200"/>
            </a:br>
            <a:br>
              <a:rPr sz="72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قد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به فرم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سلم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ÉF ,CÏáXåÖáoå_F ãÐå×áÃá® åÌáÆ áYåRáÃá² áÑ ,CÏáXåÇá¿ác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Uá®CätÂB ãÍãmÎ Øã¶ áÑ ãÐáÃå×äÃÂB ãÍãmÎ Øã¶ ØãÂ áSáÏáW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در فرم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 آن را اجر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مسلط گشتى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بخشى بر من در اين شب و در اي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ع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âÐâXåRáÊålF èSåÊál éÄâ¾ áÑ ,âÐâXåÆáoå_F èÅåoâ_ éÄâ¾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جرم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تكب شده ام 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ز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0160" y="259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XåÃãÇá® èÄåÏá_ éÄâ¾ áÑ ,âÐâWånáoåsF èeå×ãRáº  éÄâ¾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زشت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WåoáÏå~ªF åÑF âÐâXå×á·ågF âÐâXåËáÃå®F åÑF âÐâXåÇáXá¾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RãWC¿ÂB áÅBáoã¿ÂB CÏãWCRå[IãQ áVåoáÆF èUáNë×ás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چه آشكار چه پنه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در عيان و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بد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نويسندگ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امي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ستور يادداش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ش را داد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ëËãÆ âÉÒâ¿áÖ CÆ ã«å·ãdãQ åÈâÏáXåÃé¾áÑ áÌÖãmä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YåËâ¾ áÑ ,ØãcãnBÒá_ á°áÆ éØáÃá® æBjÒâÏâw åÈâÏáXåÃá¯á_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ن نويسندگ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ها را م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 بر ثبت اعمال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 آن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ضميمه اعضاء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ارحم گواه بر م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0" spc="-1" strike="noStrike">
                <a:solidFill>
                  <a:srgbClr val="000099"/>
                </a:solidFill>
                <a:latin typeface="Karbala"/>
              </a:rPr>
              <a:t>,ârÑêkâº CÖ ânÒâÊ CÖ</a:t>
            </a:r>
            <a:br>
              <a:rPr sz="7000"/>
            </a:b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نور حقيقى و اى منزه از هر ع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520" y="20448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kãÎCéxÂB áÑ ,åÈãÏãMBnáÑ åÌãÆ éØáÃá® áSå×ãºäoÂB áYåÊ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åÈâÏåËá® áØã·ág CÇãÂ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ضاف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آنها خودت نيز مراقب من بودى و</a:t>
            </a:r>
            <a:r>
              <a:rPr b="1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اه اعمالى بود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ايشان پنهان مى مان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áÀãÃå£á·ãQ áÑ ,âÐáXå×á·ågF áÀãXáÇåcáo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لبته به واسطه رحمتت ب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نها را پنهان داش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روى فض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وشان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ÑF ,âÐáXåÂáqåÊF èoå×ág ëÄâ¾  åÌãÆ Øë«ác áoë¶áÒâW åÉF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يز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ره ام را وافر و سرشار گردان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هر خ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فرو ريز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¹åpãn åÑF ,âÐáWåoáxáÊ èäoãQ åÑF ,âÐáXåÃé£á¶ èÉCtåcH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فرمائى يا نيكيهايى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خ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يا رزق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ÍâoâXåtáW èI§ág åÑF ,âÍâoã·å³áW  èSåÊál åÑF ,âÐáXå§átá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سترانى يا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يامرزى يا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پوشانى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</a:t>
            </a: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ÕÙåÒáÆ áÑ Õãkë×ás áÑ ØãÏÂH CÖ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ãÍãká×ãQ åÌáÆ CÖ ,Øëºãn áÀãÂCÆ áÑ</a:t>
            </a:r>
            <a:r>
              <a:rPr b="0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6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اى آقا و مولايم و اى مالك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ختيارم بدس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,ØãXáËá¿åtáÆ áÑ Õëoâ£ãQ æCÇ×ãÃá® CÖ ,ØãXá×ã{CÊ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ºC¶ áÑ Õãoå»á·ãQ æBoå×ãRág</a:t>
            </a: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داناى بر پريشانى و بى نوائي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گه از بى چيزى و ندار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، پروردگارا پروردگارا</a:t>
            </a: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Èá«å®F áÑ ,áÀãsåkâº áÑ áÀë»ádãQ áÀâÂGåsF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ÌãÆ ØãWCºåÑF áÄá¯å`áW åÉF ,áÀãMCÇåsF áÑ áÀãWC·ã{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تو مى خواهم به حق خودت و به ذات مقدست و به بزرگترين صفا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سمائ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وقات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CÖ áÑ ,áÌ~~~×ãÂéÑÛB áÁéÑF CÖ</a:t>
            </a:r>
            <a:br>
              <a:rPr sz="66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Ì~ÖoãgÝB áoãgD</a:t>
            </a: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غاز موجودات اولين و اى پايان آخر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XáÆåkãhãQ áÑ ,æTánÒâÇå¯áÆ á½ãoå¾ãmãQ ãnCÏéËÂB áÑ ãÄå×äÃ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äXác ,æUáÂÒâRå»áÆ á½ákåËã® ØãÂCÇå®F áÑ ,æUáÂÒâ{åÒáÆ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شب و روز به ياد خودت معمور و آباد گردان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خدمتت پيوسته دارى و اعمالم را مقبول درگاهت گرد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æBjånãÑ CÏêÃâ¾ ÕãjBnåÑF áÑ ØãÂCÇå®F áÉÒâ¿áW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 ,æBkáÆåoás áÀãXáÆåkãg Øã¶ ØãÂCác áÑ ,æBkãcBÑ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اعمال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فتارم همه يك جهت براى تو باشد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لم هميشه در خدمت تو مصروف گ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ÂH åÌáÆ CÖ ,ØãÂéÒá¯âÆ ãÐå×áÃá® åÌáÆ CÖ Õãkë×ás CÖ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BÒåcF âVåÒá¿áw </a:t>
            </a: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كيه گاهم او 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شكايت احوال خويش به درگاه او ب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c00000"/>
                </a:solidFill>
                <a:latin typeface="Karbala"/>
              </a:rPr>
              <a:t>,ëPán CÖ ëPán CÖ ëPán CÖ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72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دگارا پروردگارا پروردگارا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åjâkåwB áÑ ,ØãcãnBÒá_ áÀãXáÆåkãg ÔÃá® ëÒáº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رو ده بر انجام خدمتت اعضاى مرا و دلم را بر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ékã`ÂB áØãÂ åSáÎ áÑ ,ØãdãÊBÒá_ ãUáÇÖãqá¯ÂB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XáÆåkãhãQ ãÁC|ëWßB Øã¶ áÅBÑékÂB áÑ ,áÀãXá×åxág</a:t>
            </a:r>
            <a:br>
              <a:rPr sz="6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زيمت به سويت محكم گردان و به م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ش در ترس و خشيتت و مداومت در پيوستن به خدمتت عطا 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Ìå×ã»ãQCétÂB ãÌåÖãjC×áÆ Øã¶ áÀå×áÂH ábáoåsF ÔäXác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ÂH á¹CXåwF áÑ ,áÌåÖãnãjCRâÇÂB Øã¶ áÀå×áÂH áoåsâF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 تن و جان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ميدانهاى پيشتازان بسويت برانم و در زمره شتابندگان بسويت بشتابم و در صف مشتاق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ÒâÊâj áÀåËãÆ áÒâÊåjF áÑ ,áÌå×ãºCáXåxâÇÂB Øã¶ áÀãQåoâº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ºåÒâÇÂB áUá¶CháÆ áÀá¶CágF áÑ ,áÌå×ã|ãÃåhâÇÂB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بت را جويم و چون نزديك شدن مخلصان به ت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يك گردم و چون يقين آ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گان از تو بترس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å×ãËãÆKâÇÂB á°áÆ á½ãnBÒã_ Øã¶ á°ãÇáXå_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جوار رحمتت با مؤمنان در يكجا گرد آ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Ñ ,âÍåjãnGá¶ èAÒâtãQ ØãÊájBnF åÌáÆ áÑ éÈâÏäÃÂB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ã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~~á~tåcF åÌãÆ ØãËåÃá¯å_B áÑ ,âÍåk~ã~¿á¶ ØãÊájC~~~~¾</a:t>
            </a:r>
            <a:br>
              <a:rPr sz="60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ه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 مرا خواه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ش را بخواه و هر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مك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 به مكر خويش دچار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âÀ~~~~ã~XåÏáW ØãXéÂB áPÒâÊêmÂB áØãÂ åoã·å²H éÈâÏäÃÂB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áÈá|ã¯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ده ها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ر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UáÂãqåËáÆ åÈãÏãQáoåºF  áÑ ,á½ákåËã® æCRå×~ã~|áÊ á½ãkå×ãRá®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CËâÖ Ù âÐéÊI~á¶ ,áÀåÖákáÂ æUá·åÂâp åÈãÏë|ágF áÑ ,áÀåËãÆ</a:t>
            </a:r>
            <a:br>
              <a:rPr sz="6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صيبم را پيش خود بهتر از ديگر بندگانت قرار د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نزلتم را نزد خود نزديكتر از ايش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رتبه ام را در پيشگاهت مخصوص تر از ديگران گرد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½ãjÒâ`ãQ ØãÂ åkâ_ áÑ ,áÀãÃå£á·ãQ éÙH áÀãÂl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Ëå~«á·åcB áÑ ,á½ãkå`áÇãQ éØáÃá® å¸ã§å®B</a:t>
            </a:r>
            <a:br>
              <a:rPr sz="6000"/>
            </a:br>
            <a:br>
              <a:rPr sz="6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به فضل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به اين مقام نرس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بخشش خود به من جو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ب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د و بزرگوارى خود بر من توج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7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`ãÏáÂ á½ãoå¾ãmãQ ØãÊCtãÂ åÄá¯å_B áÑ ,áÀãXáÇåcáoã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ÌåtâdãQ éØáÃá® éÌâÆ áÑ ,æCÇé×áXâÆ áÀëRâdãQ ØãRåÃáº áÑ</a:t>
            </a:r>
            <a:br>
              <a:rPr sz="60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رحمت خود مرا نگهدار و قرار ده زبان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ب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ت گويا و دلم را به دوستيت بى قرا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يدا و با 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ك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منت بن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éÂáp åoã·å²H áÑ ,ØãWáoå\á® ØãËåÃãºF áÑ ,áÀãXáQC_H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á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 ,áÀãWájCRã¯ãQ á½ãjCRã® ÔÃá® áYå×á£áº áÀéÊI~á¶</a:t>
            </a:r>
            <a:br>
              <a:rPr sz="60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لغزشم را ناديده گير و گناهم را بيامرز زي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خود بندگانت ر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پرستش خويش فرمان د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UáQC_ßB âÈâÏáÂ áYåËãÇá¢ áÑ ,áÀãMC®âkãQ åÈâÏáWåoáÆ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دع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ن به درگاهت ماءمور ساخ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جابت دعايشان را ضمان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áÀå×áÂH áÑ ,ØãÏå_áÑ âYåRá|áÊ ëPán CÖ áÀå×áÂI~á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پروردگار من به سوى تو رو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ود بداشتم و به درگاه ت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Â åSã`áXåsB áÀãWéqã¯ãRá¶ ,ÕãkáÖ âVåjákáÆ ëP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م دست حاجت درا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 پس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عزت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å°á§å»áW Ù áÑ ,áÕCËâÆ ØãËå³ëÃáQ áÑ ,ØãMC®âj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جاب فرما و به آرزويم برسان و اميدم را</a:t>
            </a:r>
            <a:r>
              <a:rPr b="1" lang="ar-SA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ëÌã`ÂB éoáw ØãËã·å¾B áÑ ,ØãMC_án áÀãÃå£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خويش قطع منما</a:t>
            </a: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ر دشمنانم را از ج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oã·å²H ,C¢ëoÂB á°Öãoás CÖ ,ØãMBkå®F åÌãÆ ãuåÊß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س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ايت فرما اى خد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 سریع از ما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ضی می شوی، بیامرز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48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Èá»ëËÂB âÁãqåËâW ØãXéÂB áPÒâÊêmÂB áØãÂ åoã·å²H éÈâÏäÃÂB</a:t>
            </a:r>
            <a:br>
              <a:rPr sz="6400"/>
            </a:br>
            <a:br>
              <a:rPr sz="64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قاب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 را فرو ريز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1760" y="6048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,</a:t>
            </a:r>
            <a:r>
              <a:rPr b="1" lang="en-GB" sz="5300" spc="-1" strike="noStrike">
                <a:solidFill>
                  <a:srgbClr val="000099"/>
                </a:solidFill>
                <a:latin typeface="Karbala"/>
              </a:rPr>
              <a:t>âACáxáW CÇãÂ çÁCé¯á¶ áÀéÊIá¶ ,áAC®êkÂB ÙH âÀãÃåÇáÖ Ù åÌáÇãÂ</a:t>
            </a:r>
            <a:br>
              <a:rPr sz="5300"/>
            </a:br>
            <a:br>
              <a:rPr sz="60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چيزى ندارد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استى تو ه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را بخواهى انجام ده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çAC~~·ãw âÍâoå¾ãl áÑ ,çABÑáj âÐâÇåsB åÌáÆ CÖ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امش دوا است و ياد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فاء است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ãÂCáÆ ârFán åÌáÆ åÈácånãB ,æÔáËã² âÐâXá®Cá¦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AC¿âRÂB âÐ~âcÚ~ã~s áÑ ,âAC_äoÂB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اعتش توانگرى است ترحم فرما بر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مايه اش اميد و ساز و برگش گريه و زارى اس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ãÈá»ëËÂB á°ã¶Báj CÖ ,ãÈá¯ëËÂB á´ãQCs CÖ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4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ام دهنده نعمتها و اى برطرف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نده گرفتار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ÇãÂC® CÖ ,ãÈáÃê~«ÂB Øã¶ áÌå×ãxãcåÒáXåtâÇÂB ánåÒâÊ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روشنى وحشت زدگان در تاريكيه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ى دانا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èkéÇádâÆ ãÁD áÑ èk~~éÇádâÆ ÔÃá® ëÄá{ ,âÈéÃá¯âÖ Ù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ى معل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ود فرست بر محمد و آل محم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âÐâÃåÎF áY~å~ÊF CÆ ØãQ åÄá¯å¶B áÑ</a:t>
            </a:r>
            <a:br>
              <a:rPr sz="66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نجام ده درباره من آنچه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تو شايسته آ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UéÇ~~ã~MÛB áÑ ãÐ~ãÂåÒ~â~sán Ô~Ãá® âÐäÃÂB ÔéÃá{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.æBo×ã\~~á~¾ æCÇ×ãÃ~~åtáW áÈéÃ~~~ás áÑ ,ãÐãÃåÎF åÌãÆ Ìå×ãÆC×áÇÂB</a:t>
            </a:r>
            <a:br>
              <a:rPr sz="54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ود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 بر پيامبر و پيشوايان با 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خاندان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لام فرا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Èá¯ëËÂB âoë×á³âW Ø~~~ã~XéÂB áPÒâÊêmÂB áØãÂ åoã·å²H éÈ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نعمت ها را تغيير ده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52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C®êkÂB âuãRådáW ØãXéÂB áPÒâÊêmÂB áØãÂ åoã·å²H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ÈâÏäÃÂB</a:t>
            </a:r>
            <a:br>
              <a:rPr sz="60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ابت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 جلوگير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60200" y="188640"/>
            <a:ext cx="990576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AÚáRÂB âÁãqåËâW ØãXéÂB áPÒâÊêmÂB áØãÂ åoã·å²H éÈâÏäÃÂB</a:t>
            </a:r>
            <a:br>
              <a:rPr sz="6000"/>
            </a:br>
            <a:br>
              <a:rPr sz="6600"/>
            </a:br>
            <a:br>
              <a:rPr sz="66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 آن گناهانى را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لا نازل آن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ãÈ~~~~~~~~×ãcéoÂB ãÌáÇåcéoÂB ãÐéÃÂB ãÈåtãQ</a:t>
            </a:r>
            <a:br>
              <a:rPr sz="7200"/>
            </a:br>
            <a:br>
              <a:rPr sz="7200"/>
            </a:b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نام خداوند بخشنده مهربا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484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éÄâ¾ áÑ ,âÐâXåRáÊålF èSåÊál éÄâ¾ áØãÂ åoã·å²H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CÏ~~~~â~WG§~ågF èUN×ã§ág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يامرز برا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گناه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م و هر خط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سر زد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ãoå¾ãmãQ áÀ×áÂH âPéoá»áWF ØëÊH éÈâÏäÃÂB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به سوى تو تقرب جوي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Àãtå·áÊ ÔÂH áÀãQ â°ã·åxáXåsF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فيع آورم بدرگاهت خودت ر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Qåoâº åÌãÆ ØãËá×ãÊåkâW åÉF á½ãjÒâ`ãQ áÀâÂGås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ود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ت از تو مى خواه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را به مقا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رب خويش نزديك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1760" y="4932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á½áoå¿âw ØËá®ãpÒâW åÉF áÑ</a:t>
            </a:r>
            <a:br>
              <a:rPr sz="6600"/>
            </a:br>
            <a:br>
              <a:rPr sz="3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.á½áoå¾ãl ØËáÇãÏåÃâW åÉF áÑ</a:t>
            </a: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پاسگذاريت را بر من روز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ذ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خود را به من الها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4840" y="56484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°ã¢Cg áÁBKâs áÀâÂGåsF ØëÊH  éÈâÏäÃÂB</a:t>
            </a:r>
            <a:br>
              <a:rPr sz="6600"/>
            </a:b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è°ãwCg</a:t>
            </a:r>
            <a:r>
              <a:rPr b="1" lang="fa-IR" sz="66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èÄëÂámáXâÆ</a:t>
            </a: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درخواس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خص فروتن خوار ترسان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ËáÃá¯å`áW áÑ ,ØËáÇácåoáW áÑ ØËádãÆCátâW åÉF</a:t>
            </a:r>
            <a:br>
              <a:rPr sz="6000"/>
            </a:b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¯ãÊCº æC×ã¢Bán áÀãÇåtã»ãQ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من آسان گيرى و به من رح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و مرا به آ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يم قسم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اى راضى و قانعم ساز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.æC¯ã¢BÒáXâÆ ãÁBáÒåcÛB ã°×ãÇá_ Ø¶ áÑ</a:t>
            </a:r>
            <a:br>
              <a:rPr sz="6000"/>
            </a:br>
            <a:br>
              <a:rPr sz="6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تمام حالات فروتن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4520" y="1212840"/>
            <a:ext cx="924552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âÐâXáºC¶ åVékáXåwH åÌáÆ áÁBKâs áÀâÂGåsF áÑ éÈâÏäÃ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از تو 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خواس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سخت فقير و بى چيز شده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80" y="40464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Èâ«á® áÑ âÐáXá_Cc ãkãMBk~~~~~~~éxÂB ákåËã® áÀãQ áÁáqåÊF áÑ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âÐâXáRå²án  á½ákåËã® CÇ×¶</a:t>
            </a:r>
            <a:br>
              <a:rPr sz="6000"/>
            </a:br>
            <a:br>
              <a:rPr sz="6000"/>
            </a:b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fa-IR" sz="6000" spc="-1" strike="noStrike">
                <a:solidFill>
                  <a:srgbClr val="000000"/>
                </a:solidFill>
                <a:latin typeface="Karbala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واسته اش را هنگام سختيها پيش تو آورده و اميدش بدانچه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د تو است بسيار بزرگ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Yá¯ãsáÑ ØXéÂB áÀãXáÇåcáoãQ áÀâÂGsF ØëÊHéÈâÏäÃÂB</a:t>
            </a:r>
            <a:br>
              <a:rPr sz="66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0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AØáw éÄâ¾</a:t>
            </a:r>
            <a:br>
              <a:rPr sz="6600"/>
            </a:br>
            <a:br>
              <a:rPr sz="6000"/>
            </a:br>
            <a:br>
              <a:rPr sz="32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من از تو مى خواهم بحق آن رحم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را فرا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361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âÊC¿áÆ Úá® áÑ ,áÀâÊC§åÃâs áÈâ«á® éÈâÏäÃÂB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سلطنت و پادشاهيت بس بزرگ 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مقامت بسى بلند است</a:t>
            </a:r>
            <a:br>
              <a:rPr sz="4400"/>
            </a:br>
            <a:br>
              <a:rPr sz="5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SáÃá² áÑ ,á½âoåÆF áoáÏáª áÑ ,á½âoå¿áÆ áØã·ág áÑ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 و تدبيرت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 پنهان و امر و </a:t>
            </a:r>
            <a:br>
              <a:rPr sz="46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مانت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شكار است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âÌã¿åÇâÖ Ù áÑ ,áÀâWánåkâº åVáoá_ áÑ ,á½âoåÏáº</a:t>
            </a:r>
            <a:br>
              <a:rPr sz="64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4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.áÀãXáÆÒâ¿âc åÌãÆ ânBáoã·ÂB</a:t>
            </a:r>
            <a:br>
              <a:rPr sz="6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هرت غالب و قدرت و نيرويت نافذ است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ريز از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ت حكومت تو ممكن نيست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áÑ ,æBoã¶C² ØãQÒâÊâmãÂ âkã_F Ù ÈâÏäÃÂBé</a:t>
            </a:r>
            <a:br>
              <a:rPr sz="6000"/>
            </a:br>
            <a:br>
              <a:rPr sz="2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BoãWCs ØãdãMCRá»ãÂ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br>
              <a:rPr sz="3600"/>
            </a:br>
            <a:br>
              <a:rPr sz="36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نيابم براى گناهانم آمرزنده اى و نه برا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زشتم پرده پوشى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ãÌátádÂCãQ ãe~~~~×ãRá»ÂB ØãÃáÇá® åÌãÆ èAØáxãÂ Ù áÑ</a:t>
            </a:r>
            <a:br>
              <a:rPr sz="6400"/>
            </a:br>
            <a:br>
              <a:rPr sz="25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á½áoå×á² æÙëkáRâÆ</a:t>
            </a:r>
            <a:br>
              <a:rPr sz="64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نه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عمل زشت مرا به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نيك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بديل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د جز تو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á½ãkåÇádãQ áÑ áÀáÊCdåRâs ,áYåÊF ÙH áÐÂH Ù</a:t>
            </a: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يست معبودى جز تو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زهى تو و به حمد تو مشغو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7200" spc="-1" strike="noStrike">
                <a:solidFill>
                  <a:srgbClr val="000099"/>
                </a:solidFill>
                <a:latin typeface="Karbala"/>
              </a:rPr>
              <a:t>,ØãÃåÏá`ãQ âVFéoá`áW áÑ</a:t>
            </a:r>
            <a:r>
              <a:rPr b="1" lang="fa-IR" sz="72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Ø~~ãtå·áÊ âYåÇáÃáª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به خويشتن ستم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ر اثر نادانيم دليرى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م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 á½ãoå¾ãl ãÈÖãkáº ÔÂH âYåËá¿ás áÑ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.éØáÃá® áÀëËáÆ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ينكه هميشه از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يم به ياد من بوده وبر من لطف و بخشش داشتى آسوده خاطر نشست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WåoáXás èe×ãRáº åÌãÆ åÈá¾ ,áÕÙåÒáÆ éÈ~~~~~~~âÏäÃ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خدا اى مولاى من چه بسيار زشتيها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پوشاندى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ÃáºF ãAÚáRÂB áÌãÆ èbãjCá¶ åÌãÆ åÈá¾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00"/>
                </a:solidFill>
                <a:latin typeface="Karbala"/>
                <a:cs typeface="Arial"/>
              </a:rPr>
              <a:t>و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بسيار بلاهاى سنگين 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بازگرداندى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990612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áÑ ,AØáw éÄâ¾ CÏãQ áVåoáÏáº ØXéÂB áÀãWéÒâ»ãQ áÑ</a:t>
            </a:r>
            <a:br>
              <a:rPr sz="6400"/>
            </a:br>
            <a:br>
              <a:rPr sz="2000"/>
            </a:b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,AØáw êÄâ¾ CÏáÂ éÁál áÑ ,AØáw êÄâ¾ CÏáÂ á°á£ág</a:t>
            </a:r>
            <a:br>
              <a:rPr sz="5400"/>
            </a:br>
            <a:br>
              <a:rPr sz="5400"/>
            </a:br>
            <a:br>
              <a:rPr sz="1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نيرو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همه چيز را بوسيله آن مقهور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يش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چيز در برابر آن خاضع و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ه در پيش آن خوار است</a:t>
            </a:r>
            <a:br>
              <a:rPr sz="4000"/>
            </a:b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1212840"/>
            <a:ext cx="94107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âÐáXå¯á¶áj èÍÑâoå¿áÆ åÌãÆ åÈá¾ áÑ ,âÐáXå×áºáÑ ènCá\ã® åÌãÆ åÈá¾ áÑ</a:t>
            </a:r>
            <a:br>
              <a:rPr sz="5500"/>
            </a:br>
            <a:br>
              <a:rPr sz="6000"/>
            </a:br>
            <a:br>
              <a:rPr sz="60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لغزشها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آن نگهم داشتى و چه بسيار ناراحتيها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من دور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â æÚåÎF âYåtáÂ èÄ×ãÇá_ èACËá[ åÌãÆ åÈá¾ áÑ </a:t>
            </a:r>
            <a:br>
              <a:rPr sz="58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800"/>
            </a:br>
            <a:r>
              <a:rPr b="1" lang="en-GB" sz="5800" spc="-1" strike="noStrike">
                <a:solidFill>
                  <a:srgbClr val="000099"/>
                </a:solidFill>
                <a:latin typeface="Karbala"/>
              </a:rPr>
              <a:t>.âÐáWåoáxáÊ ÐáÂ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چه بسيار مدح و ثناى خوبى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ن شايسته اش نبودم و تو آن را منتشر ساختى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475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AÒâs åØãQ á¦áoå¶F áÑ ,ØãMÚáQ áÈâ«á® éÈâÏäÃÂB</a:t>
            </a:r>
            <a:br>
              <a:rPr sz="5400"/>
            </a:br>
            <a:br>
              <a:rPr sz="25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ØãÂCc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ايا بلاى من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ى بزرگ است و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ى حالم از حد گذشته</a:t>
            </a: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00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ká¯áº áÑ ,ØãÂCáÇå®F åØãQ åVáoâ|áº áÑ </a:t>
            </a:r>
            <a:br>
              <a:rPr sz="6000"/>
            </a:br>
            <a:br>
              <a:rPr sz="29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ÂÚå²F ØãQ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8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عمالم نارسا است و زنجيرهاى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يق مرا خانه نشين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160" y="304920"/>
            <a:ext cx="94104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ØãÂCÆD âkå¯âQ Øã¯å·áÊ åÌá® ØãËátáRác áÑ</a:t>
            </a:r>
            <a:br>
              <a:rPr sz="6000"/>
            </a:br>
            <a:br>
              <a:rPr sz="6000"/>
            </a:br>
            <a:br>
              <a:rPr sz="2500"/>
            </a:br>
            <a:br>
              <a:rPr sz="4500"/>
            </a:br>
            <a:r>
              <a:rPr b="0" lang="en-GB" sz="45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آرزوهاى دور و دراز مرا از </a:t>
            </a:r>
            <a:br>
              <a:rPr sz="45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سيدن به منافعم بازداشت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tå·áÊ áÑ ,CÎãnÑâoâ³ãQ C×åÊêkÂB åØãËåXá®ákág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ØãÂC§ãÆ áÑ ,CÏãXáÊC×ãh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نيا با ظواهر فريبنده اش مرا گول زد و نفسم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وسيله جنايتش و به مسامحه گذران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Ù åÉF ,áÀãWéqã¯ãQ áÀâÃáNåsGá¶ ,Õãkë×~~~á~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ÂCá¯ã¶ áÑ ØãÃáÇá® âAÒâs ØãMC®âj áÀåËá® áSâ`ådáÖ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پس از تو مى خواهم به عزت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ى رفتار و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ار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عايم را از اجابتت جلوگيرى نكن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1890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Yå¯áÃé¦B CÆ ëØã·áhãQ ØãËådá£å·áW Ù áÑ</a:t>
            </a:r>
            <a:br>
              <a:rPr sz="6000"/>
            </a:br>
            <a:r>
              <a:rPr b="0" lang="en-GB" sz="25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ãs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ÌãÆ ãÐå×áÃá®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رسوا نكنى مرا به آنچه از اسرار پنهان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0200" y="0"/>
            <a:ext cx="9905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âXåÃãÇá®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CÆ ÔáÃá® ãUáQÒâ»â¯ÂCãQ ØãËåÃã_Cá¯âW Ù áÑ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ØãWáAC~~~~~sH áÑ ØãÃå¯ã¶ ãAÒâs åÌ~~~ã~Æ ,ØãWBÒáÃág Øã¶ </a:t>
            </a:r>
            <a:br>
              <a:rPr sz="60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تاب نكنى در عقوبتم براى رفتار بد و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هاى بدى 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خلوت</a:t>
            </a:r>
            <a:r>
              <a:rPr b="1" lang="fa-IR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جام دادم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ØãXáÂCÏá_ áÑ Øã§Öãoå·áW ãÅBÑáj áÑ </a:t>
            </a:r>
            <a:br>
              <a:rPr sz="6000"/>
            </a:br>
            <a:r>
              <a:rPr b="1" lang="en-GB" sz="29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XáÃå·á²  áÑ ØãWBÒáÏ~~~á~w ãTáoå\á¾ áÑ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ff3300"/>
                </a:solidFill>
                <a:latin typeface="Karbala"/>
              </a:rPr>
              <a:t> </a:t>
            </a:r>
            <a:br>
              <a:rPr sz="6000"/>
            </a:br>
            <a:br>
              <a:rPr sz="5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دامه دادنم به تقصير و نادانى و زيادى شهوت رانى و بى خبري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èAØáw éÄâ¾ CÏãQ áYåRáÃá²  Ø~~ãXéÂB áÀãWÑâoáRá`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جبروت ت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وسيله آن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ره گشت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هر چي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ÁBáÒåcÛB ëÄâ¾ Øã¶ ØãÂ áÀãWéqã¯ãQ éÈâÏäÃÂB ãÌâ¾ áÑ</a:t>
            </a:r>
            <a:br>
              <a:rPr sz="54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C¶Òâ§á® ãnÒâÆÛB ã°~~~×ãÇá_ Øã¶ éØáÃá® áÑ ,æC¶ÑâJán</a:t>
            </a:r>
            <a:br>
              <a:rPr sz="5400"/>
            </a:br>
            <a:br>
              <a:rPr sz="54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خدايا به عزتت سوگند 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تمام احوال نسبت به من مهربان باش و در تمام</a:t>
            </a:r>
            <a:r>
              <a:rPr b="1" lang="fa-IR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ور بر من </a:t>
            </a:r>
            <a:br>
              <a:rPr sz="4100"/>
            </a:br>
            <a:r>
              <a:rPr b="1" lang="ar-SA" sz="41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طوفت فرما</a:t>
            </a:r>
            <a:br>
              <a:rPr sz="4600"/>
            </a:br>
            <a:br>
              <a:rPr sz="4600"/>
            </a:b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á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¸~~åxá¾ âÐâÂGåsF á½âoå×á² ØãÂ åÌáÆ ØëQán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ÕãoåÆF Øã¶ áo~~~~~á«éËÂB áÑ ,Õëoâ¢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00"/>
            </a:b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من و اى پروردگار من جز تو </a:t>
            </a:r>
            <a:br>
              <a:rPr sz="4600"/>
            </a:b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سی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دارم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رفع گرفتارى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توجه در </a:t>
            </a:r>
            <a:r>
              <a:rPr b="1" lang="fa-IR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م را از او درخواست آنم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âYå¯áRéWH æCÇå¿âc éØáÃá® áYåÖáoå_F áÕÙåÒáÆ áÑ ØãÏÂH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tå·áÊ ÓáÒáÎ ãÐ×ã¶</a:t>
            </a:r>
            <a:br>
              <a:rPr sz="6000"/>
            </a:br>
            <a:br>
              <a:rPr sz="6000"/>
            </a:br>
            <a:r>
              <a:rPr b="0" lang="fa-IR" sz="4200" spc="-1" strike="noStrike">
                <a:solidFill>
                  <a:srgbClr val="000000"/>
                </a:solidFill>
                <a:latin typeface="Karbala"/>
                <a:cs typeface="Arial"/>
              </a:rPr>
              <a:t>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خداى من و اى مولاى من تو بر من حكمى را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رر داش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اجراى آن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يرو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اى نفسم را آرد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åÌ~~~ãÆ ãÐ×ã¶ årãoáXåcF åÈáÂ áÑ</a:t>
            </a:r>
            <a:br>
              <a:rPr sz="6600"/>
            </a:b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 ,ÕêÑâk~~á~® ãÌ×ãÖåqáW</a:t>
            </a:r>
            <a:br>
              <a:rPr sz="6600"/>
            </a:br>
            <a:br>
              <a:rPr sz="6600"/>
            </a:br>
            <a:br>
              <a:rPr sz="54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ز فريبكارى دشمنم در اين باره نهراسيدم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Âál ÔáÃá® âÍáká¯~~~~åsF áÑ ÓáÒåÎF CÇãQ ØãÊéoá³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AC£á»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و هم طبق دلخواه خويش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ولم زد و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</a:t>
            </a:r>
            <a:r>
              <a:rPr b="1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قد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4840" y="1155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¤å¯áQ áÀãÂál åÌãÆ éØáÃá® Óáoá_ CÇãQ âVåpáÑC`áXá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ãoãÆBáÑF á¤å¯áQ âYå·áÂCág áÑ ,á½ãjÑâkâc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 ا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 و در اثر همين ماجراى شو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سرم آمد نسبت به پاره ا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حدود و احكامت تجاوز آردم و در برخى از دستوراتت راه مخالفت را پيمود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áUé`âc Ù áÑ áÀãÂál ã°×ãÇá_ Øã¶ éØáÃá® âUé`âdÂB áÀáÃá¶ </a:t>
            </a:r>
            <a:br>
              <a:rPr sz="5600"/>
            </a:br>
            <a:r>
              <a:rPr b="1" lang="en-GB" sz="5600" spc="-1" strike="noStrike">
                <a:solidFill>
                  <a:srgbClr val="000099"/>
                </a:solidFill>
                <a:latin typeface="Karbala"/>
              </a:rPr>
              <a:t> ,á½âJC£áº ãÐ×ã¶ éØáÃá® Óáoá_ CÇ×ã¶ ØãÂ</a:t>
            </a:r>
            <a:br>
              <a:rPr sz="5600"/>
            </a:br>
            <a:br>
              <a:rPr sz="5400"/>
            </a:br>
            <a:br>
              <a:rPr sz="6000"/>
            </a:br>
            <a:br>
              <a:rPr sz="5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در تمام آنچه پيش آمده تو را ستايش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آنم و 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از حكم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 م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رى گشته و قضا و آزمايش ت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78120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½âJÚáQ áÑ áÀâÇå¿âc ØãËáÆáqåÂF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 بدان ملزم ساخته</a:t>
            </a:r>
            <a:r>
              <a:rPr b="0" lang="fa-IR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جت و برهانى ندارم</a:t>
            </a:r>
            <a:br>
              <a:rPr sz="4600"/>
            </a:br>
            <a:br>
              <a:rPr sz="6000"/>
            </a:b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Õão×ã|å»áW ákå¯áQ ØãÏÂH CÖ áÀâXå×áWF åkáº áÑ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æCÆãjCáÊ æBnãmáXå¯âÆ ,Øãtå·áÊ ÔáÃá® Øã¶BáoåsH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اينك اى معبود من در حالى به درگاهت آمده ا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باره ا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ر خود زياده روى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وده</a:t>
            </a:r>
            <a:br>
              <a:rPr sz="4200"/>
            </a:br>
            <a:br>
              <a:rPr sz="4200"/>
            </a:b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æBëoã»âÆ ,æCRå×ãËâÆ ,æBoã·å³áXåtâÆ ,æÚ×ã»áXåtâÆ ,æBoãtá¿åËâÆ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ØëËãÆ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ÉCá¾ CéÇãÆ æBéoá·áÆ âkã_F Ù ,æC¶ãoáXå¯âÆ ,æCËã®åmâÆ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پشيمان و دل شكسته و پوزش جو و آمرزش طلب و بازگشت آنان و به گناه خويش اقرار و اذعان و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رم و راه گريزى از آنچه</a:t>
            </a:r>
            <a:br>
              <a:rPr sz="6000"/>
            </a:br>
            <a:br>
              <a:rPr sz="5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33300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400" spc="-1" strike="noStrike">
                <a:solidFill>
                  <a:srgbClr val="000099"/>
                </a:solidFill>
                <a:latin typeface="Karbala"/>
              </a:rPr>
              <a:t>,çAØáw CÏáÂ âÅÒâ»áÖÙ ØãXéÂB áÀãWéqã¯ãQ áÑ</a:t>
            </a:r>
            <a:br>
              <a:rPr sz="6400"/>
            </a:br>
            <a:br>
              <a:rPr sz="64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عزت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چيزى در برابرش نه ايست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108080"/>
            <a:ext cx="9906120" cy="56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ÕãoåÆF Øã¶ ãÐå×áÂH âÐé_áÒáWF æC®áqå·áÆ Ù áÑ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من سر زده نيابم و پناهگاه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دان ر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م د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 خويش ندارم</a:t>
            </a:r>
            <a:br>
              <a:rPr sz="6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¶ áÕCéÖH áÀãÂCágåjH áÑ ,Õãnåmâ® áÀãÂÒâRáº áoå×á²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.áÀãXáÇåcán åÌãÆ èUá¯ás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عذرم بپذيرى و مرا در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راخناى رحمتت درآو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Õëoâ¢ áTékãw åÈácånB áÑ ,Õãnåmâ® åÄáRåºCá¶ éÈâÏäÃ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ºC[ãÑ ëkáw åÌãÆ ØãËé¿â¶ áÑ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ى خداى من عذرم بپذي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ر سخت پريشاني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ح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 و از بند سخت گناهانم رهائيم ده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484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Uéºãn áÑ ,ØãÊákáQ á¸å¯á¢ åÈácånB ëPán C~á~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Çå«á® áUéºãj áÑ ,ÕãkåÃã_</a:t>
            </a: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بر ناتوان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نم و ن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 پوست تنم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ريكى استخوانم رحم آ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ØãXá×ãQåoáW áÑ Õãoå¾ãl áÑ Øã»åÃág FákáQ åÌáÆ C~~Ö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غاز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ى به آفرينش من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اد من و بپرورش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ãÆáoá¾ ãABkãXåQãÙ ØãËåRáÎ ,ØãXáÖãmå³áW áÑ Õëoã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Q á½ëoãQ ã¸ãÂCs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احسان و خوراك دادنم 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ن به همان بزرگوارى و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 نخستت و سابقه احسان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ه من داشتى مرا ببخ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ØãQëmá¯âÆ á½BáoâWF ,ØëQán áÑ Õãkë×ás áÑ ØãÏÂH CÖ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بود من و اى آقاى من و اى پروردگارم آيا تو به راستى چنانى آه مرا ب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Ðå×áÃá® ÓÒá§åÊB CÆákå¯ãQ áÑ ,á½ãk×ãcåÒáW ákå¯áQ á½ãnCáËãQ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4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عذاب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</a:t>
            </a:r>
            <a:r>
              <a:rPr b="1" lang="en-GB" sz="42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ينك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يگانگي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ãÆ ØãÊCtãÂ ãÐãQ áaãÏáÂ áÑ ,áÀãXá¶ãoå¯áÆ åÌãÆ ØRåÃáº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قرار دارم و دلم به نور معرفتت آباد گشته و زبان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,áÀëRâc  åÌãÆ Õão×ãÇá¢ âÍáká»áXå®B áÑ ,á½ãoå¾ãl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ذ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 تو گويا شد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هادم به دوستى تو پيوند شده و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éÄâ¾ åVÜáÆ Ø~~~~~~ãXéÂB áÀãXáÇá«á¯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عظمت و بزرگ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ه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 ر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¯ã¢Cg ,ØãMC®âj áÑ Øã¶BoãX®B ã¹åkã{ ákå¯áQ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25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áXé×ãQÒâQâoãÂ</a:t>
            </a:r>
            <a:br>
              <a:rPr sz="6000"/>
            </a:br>
            <a:br>
              <a:rPr sz="60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ز اعتراف صادقانه و دعاى خاضعانه ام به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م بنده پرورى و ربوبيت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Æ á°ë×á£âW åÉF åÌãÆ âÅáoå¾F áY~~å~ÊF ,áVCÏå×áÎ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áXå×éQán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 بزرگوارتر از آ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نظر دور دارى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,âÐ~~~á~XåÖáÑD ÌáÆ ájëoáxâW åÑF ,âÐáXå×áÊåjF åÌáÆ ákë¯áRâW åÑ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دور گردا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نزديك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43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âÐáXå×á·á¾ åÌáÆ ãAÚáRÂB ÔáÂH áÈëÃátâW åÑF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ÐáXåÇãcán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تسليم بلا و گرفت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ى را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خود سرپرس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ده و به لطف پروريده اى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,áÕÙåÒáÆ áÑ ØãÏÂH áÑ Õãkë×ás CÖ Õãoå¯ãw áYå×áÂáÑ</a:t>
            </a:r>
            <a:br>
              <a:rPr sz="5500"/>
            </a:br>
            <a:br>
              <a:rPr sz="2500"/>
            </a:br>
            <a:r>
              <a:rPr b="1" lang="en-GB" sz="5500" spc="-1" strike="noStrike">
                <a:solidFill>
                  <a:srgbClr val="000099"/>
                </a:solidFill>
                <a:latin typeface="Karbala"/>
              </a:rPr>
              <a:t> áÀãXáÇá«á¯ãÂ åVéo~~á~g èÍÒ~~â_âÑ ÔÃá® ánCéËÂB â¨ëÃátâWF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ش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ى دانستم اى آقا و معبود و مولايم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يا چيره م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ى آتش دوزخ را بر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ره هايى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ظم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Yá»á§áÊ èÌ~â~tÂF Ô~~~á~Ãá® áÑ ,æTákã_C~~~~~á~s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áÑ ,æUácãjCÆ á½ãoå¿ãxâQ áÑ ,æUáºãjC{ á½ãk×ãcåÒáXãQ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سجده افتاده و بر زبان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صادقانه به يگانگيت گويا شده و سپاسگزارانه به شكرت ب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ده و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ÔÃá® áÑ ,æUá»ë»ádâÆ áÀãXé×ãÏÂIãQ åYá¶áoáXå®B èPåÒâÃâº ÔáÃá®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ل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ز روى يقين به خدائي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راف آرده اند و ب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-824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VánCá{ ÔéXác ,áÀãQ ãÈåÃã¯ÂB áÌãÆ åVáÒác áoãMCÇá¢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اده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م و معرفتت آنها را فرا گرفته تا به جاي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در برابرت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1760" y="6361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ÔáÂH åYá¯~~~á~s ábãnBáÒá_ ÔÃá® áÑ ,æUá¯ãwCg</a:t>
            </a:r>
            <a:br>
              <a:rPr sz="5400"/>
            </a:br>
            <a:r>
              <a:rPr b="1" lang="en-GB" sz="2100" spc="-1" strike="noStrike">
                <a:solidFill>
                  <a:srgbClr val="000099"/>
                </a:solidFill>
                <a:latin typeface="Karbala"/>
              </a:rPr>
              <a:t> å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VánC~~wF áÑ ,æUá¯ãMC¦ á½ãkêRá¯áW ãÉC¦åÑF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36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اشع گشته و بر اعضاء و جوارحى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اقانه و با حال اقرار به گناه</a:t>
            </a:r>
            <a:br>
              <a:rPr sz="4600"/>
            </a:br>
            <a:br>
              <a:rPr sz="46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99"/>
                </a:solidFill>
                <a:latin typeface="Karbala"/>
              </a:rPr>
              <a:t>,æUáËã®åmâÆ á½ãnC·å³ãX~å~sCãQ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ياى آمرزش تو هستن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êÄâ¾ Úá® ÕãméÂB áÀãÊCá§åÃâtãQ áÑ</a:t>
            </a:r>
            <a:br>
              <a:rPr sz="6600"/>
            </a:br>
            <a:br>
              <a:rPr sz="6600"/>
            </a:br>
            <a:br>
              <a:rPr sz="2000"/>
            </a:br>
            <a:br>
              <a:rPr sz="66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آن سلطنت و پادشاهي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بر هر چيز برترى گرفت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76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ÀãÃå£á·ãQ CÊåoãRågâF Ù áÑ ,áÀãQ êÌé«ÂB Bmá¿Î CÆ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ÈåÖãoá¾ CÖ ,áÀåËá®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نين گمانى به تو نيست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فضل تو چنين خبر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ما نرسيده اى خد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ي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160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åÌãÆ èÄ×ãÃáº åÌá® Øã·å¯á¢ âÈáÃå¯áW áYåÊF áÑ ëPán C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CÏ×ã¶ Õãoå`áÖ CÆ áÑ ,CÏãWCQåÒâ»â® áÑ C×åÊêkÂB ãAÚáQ</a:t>
            </a: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پروردگار من و تو ناتوانى مرا در مقابل ا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ى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لاى دنيا و آيفرهاى ناچيز آن و ناملايما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معمولاً</a:t>
            </a:r>
            <a:br>
              <a:rPr sz="4600"/>
            </a:br>
            <a:br>
              <a:rPr sz="46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çAÚáQ áÀãÂl éÉF ÔÃá® ,CÏãÃåÎF ÔÃá® ãÍãnC¿áÇÂB áÌãÆ</a:t>
            </a:r>
            <a:br>
              <a:rPr sz="5400"/>
            </a:br>
            <a:br>
              <a:rPr sz="1300"/>
            </a:br>
            <a:r>
              <a:rPr b="1" lang="en-GB" sz="13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,âÐâWékâÆ ço×|áº ,âÍJC»áQ ço×ãtáÖ ,âÐâ\å¿áÆ çÄ×ãÃáº ,çÍÑâoå¿áÆ áÑ</a:t>
            </a:r>
            <a:br>
              <a:rPr sz="5400"/>
            </a:br>
            <a:br>
              <a:rPr sz="13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اهل آن مى رسد مى دانى در صورت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لا و ناراحتى دوام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 است و دورانش اندك و مدتش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اه است</a:t>
            </a:r>
            <a:br>
              <a:rPr sz="4600"/>
            </a:br>
            <a:br>
              <a:rPr sz="54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ãÄ×ãÃá_ áÑ ,ãTáoãgÝB ãAÚáRãÂ ØãÂCÇãXåcB á¸å×á¿á¶</a:t>
            </a:r>
            <a:br>
              <a:rPr sz="6000"/>
            </a:br>
            <a:r>
              <a:rPr b="1" lang="en-GB" sz="2000" spc="-1" strike="noStrike">
                <a:solidFill>
                  <a:srgbClr val="000099"/>
                </a:solidFill>
                <a:latin typeface="Karbala"/>
              </a:rPr>
              <a:t> â</a:t>
            </a:r>
            <a:br>
              <a:rPr sz="2000"/>
            </a:b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âÐâWékâÆ</a:t>
            </a:r>
            <a:r>
              <a:rPr b="1" lang="fa-IR" sz="2000" spc="-1" strike="noStrike">
                <a:solidFill>
                  <a:srgbClr val="000099"/>
                </a:solidFill>
                <a:latin typeface="Karbala"/>
                <a:ea typeface="Arial"/>
              </a:rPr>
              <a:t> 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Òâ§áW çAÚáQ áÒâÎ áÑ ,CÏ×ã¶ ãÍãnC¿áÇÂB ãÒâºâ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چگونه تاب تحمل بلاى آخرت و آن ناملايم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زرگ را در آنجا دارم در صورتى 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آن بل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تش طولا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1520"/>
            <a:ext cx="99061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åÌá® â¸é·áhâÖ ÙáÑ ,âÐâÆC»áÆ âÅÑâkáÖ áÑ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دوامش هميشگى است و تخفيفى برا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2520" y="42084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áÀãRá£á² åÌá® ÙH âÉÒâ¿áÖ Ù âÐéÊÛ ,ãÐãÃåÎF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تلايان به آن نيست زيرا آن بلا ا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شم و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âÐáÂ âÅÒâ»áW Ù CÆ BmÎ áÑ ,áÀã§áhás áÑ áÀãÆC»ãXåÊB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,â¡ånÛB áÑ âVBÑCÇétÂB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قام و غضب تو سرچشمه گرفته و آن هم </a:t>
            </a:r>
            <a:br>
              <a:rPr sz="3800"/>
            </a:b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يزى است 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آسمانها</a:t>
            </a:r>
            <a:r>
              <a:rPr b="1" lang="fa-I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زمی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ب تحمل آن را ندارند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2228b"/>
                </a:solidFill>
                <a:latin typeface="Karbala"/>
              </a:rPr>
              <a:t>â</a:t>
            </a:r>
            <a:r>
              <a:rPr b="1" lang="en-GB" sz="6000" spc="-1" strike="noStrike">
                <a:solidFill>
                  <a:srgbClr val="22228b"/>
                </a:solidFill>
                <a:latin typeface="Karbala"/>
              </a:rPr>
              <a:t>¸×ã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¯é£ÂB á½âkåRá® CÊF áÑ ØãQ á¸å×á¿á¶ ,Õãkë×ás CÖ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âÌ×ã¿áXåtâÇÂB ,âÌ×ã¿åtãÇÂB ,âo×ã»ádÂB âÄ×ãÂémÂB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آقاى من تا چه رسد به من بنده ناتو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وار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اچيز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ستمند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چاره</a:t>
            </a:r>
            <a:r>
              <a:rPr b="0" lang="en-GB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-2736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ë ,áÕÙåÒáÆ áÑ Õãkë×ás áÑ ØëQán áÑ ØãÏÂH CÖ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ى معبود و پروردگار و آقا و مولاى م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43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åËãÆ CÇãÂ áÑ ,Òâ¿åwF áÀå×áÂH ãnÒâÆÛB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Õ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Øã¿åQFá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Ñ</a:t>
            </a:r>
            <a:r>
              <a:rPr b="1" lang="fa-IR" sz="6000" spc="-1" strike="noStrike">
                <a:solidFill>
                  <a:srgbClr val="000099"/>
                </a:solidFill>
                <a:latin typeface="Karbala"/>
                <a:ea typeface="Arial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êaã¢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گرفتاريهايم به تو شكايت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و برا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اميك از آنها شيون و گريه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600" spc="-1" strike="noStrike">
                <a:solidFill>
                  <a:srgbClr val="000099"/>
                </a:solidFill>
                <a:latin typeface="Karbala"/>
              </a:rPr>
              <a:t>,èAØáw ëÄâ¾ ãACËá¶ ák~~~~å¯áQ ØãºCRÂB áÀãÏå_áÒãQ áÑ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ه ذات پا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پس از نابودى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ر چي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قى اس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8900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Ñ ãAÚáRÂB ãÁÒâ§ãÂ åÅF ,ãÐãWékãw áÑ ãPBmá¯ÂB ãÈ×ãÂÛ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ãÐãWékâÆ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ا براى عذاب دردناك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سخت يا براى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ى طولانى و مديد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áÑ ,áÀãMBkå®F á°áÆ ãVCQÒâ»â¯åÃãÂ ØãËáWåoé×á{ åÌãNáÃá¶</a:t>
            </a:r>
            <a:br>
              <a:rPr sz="5400"/>
            </a:br>
            <a:r>
              <a:rPr b="1" lang="en-GB" sz="5400" spc="-1" strike="noStrike">
                <a:solidFill>
                  <a:srgbClr val="000099"/>
                </a:solidFill>
                <a:latin typeface="Karbala"/>
              </a:rPr>
              <a:t> áYåºéoá¶ áÑ ,áÀãMÚáQ ãÄåÎF áÌå×áQ áÑ ØãËå×áQ  áYå¯áÇá_</a:t>
            </a:r>
            <a:r>
              <a:rPr b="0" lang="en-GB" sz="54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30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اگر بنا شود مرا بخاطر 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رهايم در زمره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شمنانت اندازى و مرا با گرفتاران در بلا و 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ذابت در يكجا گرد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ورى و جدايى اندازى</a:t>
            </a:r>
            <a:br>
              <a:rPr sz="4600"/>
            </a:br>
            <a:br>
              <a:rPr sz="4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0160" y="-2736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Ö ØãËåRáÏá¶ ,áÀãMC×ãÂåÑF áÑ áÀãMCéRãcF áÌå×áQ áÑ ØãËå×áQ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âVåoáRá{ ,ØëQán áÑ áÕÙåÒáÆ áÑ Õãkë×ás áÑ ØãÏÂH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يان من 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ستانت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و آقا و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لا و پروردگارم من صبر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ویی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107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ÀãºBoã¶ ÔÃá® âoãRå{F á¸å×á¿á¶ ,áÀãQBámá® ÔÃá®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عذاب تو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ما چگونه بر دورى از تو طاقت آورم</a:t>
            </a:r>
            <a:br>
              <a:rPr sz="4200"/>
            </a:br>
            <a:r>
              <a:rPr b="0" lang="fa-IR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0160" y="43920"/>
            <a:ext cx="9410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¿á¶ ,á½ãnCÊ ëoác ÔÃá® âVåoáRá{ ØãËåRáÎ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2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گير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 اى معبود م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رارت آتشت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 تحمل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 اما چگون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53172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¸å×á¾ åÅF ,áÀãXáÆBoá¾ ÔÂB ão~á~«éËÂB ãÌá® âoãRå{F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½âÒå·á® ØãMC_án áÑ ãnCéËÂB Øã¶ âÌâ¿åsF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شم پوشيدن از بزرگواريت را بر خود هموار سازم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چگونه در ميان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تش بمانم با اينكه اميد عفو تو را دا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æCºãjC{ âÈãtåºâF ,áÕÙåÒáÆ áÑ Õãkë×ás CÖ áÀãWéqã¯ãRá¶</a:t>
            </a:r>
            <a:br>
              <a:rPr sz="6000"/>
            </a:br>
            <a:r>
              <a:rPr b="1" lang="en-GB" sz="2500" spc="-1" strike="noStrike">
                <a:solidFill>
                  <a:srgbClr val="000099"/>
                </a:solidFill>
                <a:latin typeface="Karbala"/>
              </a:rPr>
              <a:t> 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CÏãÃåÎF áÌå×áQ áÀå×áÂH éÌé`ã¢Û ,æC»ã¦CÊ ØãËáXå¾áoáW åÌãNáÂ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25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س به عزتت سوگند اى آقا و مولاى من براستى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وگند مى خورم 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گر</a:t>
            </a:r>
            <a:r>
              <a:rPr b="1" lang="fa-I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بانم را در آنجا باز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گذارى حتماً در ميان دوزخ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fBoâ{ áÀå×áÂH éÌá~~gâoå{Û áÑ ,áÌå×ãÃãÆÝB áaå×ã`á¢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را بسويت سر دهم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چون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يون اشخاص آرزومن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137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áAC~~~~~~á¿âQ áÀå×áÃá® éÌá×ã¿åQÛ áÑ ,áÌ×ãgãoå|áX~~~åtâÇÂB</a:t>
            </a:r>
            <a:br>
              <a:rPr sz="6000"/>
            </a:b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 ,áÌÖãkãºC·ÂB</a:t>
            </a:r>
            <a:br>
              <a:rPr sz="60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درگاهت فرياد برآرم و قطعاً مانند عزيز </a:t>
            </a:r>
            <a:br>
              <a:rPr sz="42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گمگشتگان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 دورى تو گريه و زارى </a:t>
            </a: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1760" y="304920"/>
            <a:ext cx="941076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r>
              <a:rPr b="1" lang="en-GB" sz="6000" spc="-1" strike="noStrike">
                <a:solidFill>
                  <a:srgbClr val="000099"/>
                </a:solidFill>
                <a:latin typeface="Karbala"/>
              </a:rPr>
              <a:t>,áÌ×ãËãÆåKâÇÂB éØãÂáÑ CÖ ,áYåËâ¾ áÌåÖF áÀéËáÖãjCÊâÛ áÑ</a:t>
            </a:r>
            <a:r>
              <a:rPr b="0" lang="en-GB" sz="6000" spc="-1" strike="noStrike">
                <a:solidFill>
                  <a:srgbClr val="000000"/>
                </a:solidFill>
                <a:latin typeface="Karbala"/>
              </a:rPr>
              <a:t> </a:t>
            </a:r>
            <a:br>
              <a:rPr sz="6000"/>
            </a:br>
            <a:br>
              <a:rPr sz="6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با صداى بلند تو را مى خوانم و مى گويم </a:t>
            </a:r>
            <a:br>
              <a:rPr sz="4200"/>
            </a:br>
            <a:r>
              <a:rPr b="1" lang="fa-IR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يى اى يار و نگهدار مؤ منان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2:49:33Z</dcterms:created>
  <dc:creator/>
  <dc:description/>
  <dc:language>en-US</dc:language>
  <cp:lastModifiedBy>Seyed Mohammad Kazem Motallebi</cp:lastModifiedBy>
  <dcterms:modified xsi:type="dcterms:W3CDTF">2008-02-04T08:27:31Z</dcterms:modified>
  <cp:revision>139</cp:revision>
  <dc:subject/>
  <dc:title>Dua e Kumail</dc:title>
</cp:coreProperties>
</file>