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7A0-62F7-4EF5-99B0-4005D71E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F1D-3EA9-4D62-BBC3-E3934276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6BF-6CEB-48FB-A629-0DFB03BF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5FA-BA92-4E48-ADAD-289732BF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B02-260D-4DC2-A16F-84E82E60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593-706E-40A6-9AA0-404EA203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AF7-7436-4976-A9AB-AE61DABA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72B-46AD-4689-A311-6047126B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2B4-EC64-4EAA-AB33-412FCD76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EC1-2E06-477C-B911-0100D4EE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902-50FB-417B-B557-B0608522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F71-6D93-4E78-B7DE-89FF9EE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9D83-ED1C-47C0-9CC9-24C8597A6608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مغر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a-IR" sz="4400" spc="-1" strike="noStrike">
                <a:solidFill>
                  <a:srgbClr val="ffc000"/>
                </a:solidFill>
                <a:latin typeface="Calibri"/>
              </a:rPr>
              <a:t> بِسم الله الرَحمن الرَحیم </a:t>
            </a: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للّهُمَّ اِنّي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اَسئَلُُکَ موجِباتِ رَحمَتِک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عَزآئِمَ مَغفِرَتِک وَالنَجاةَ مِن النّارِ وَ مِن کلِّ بَلیَّة وَالفَوزَ بِالجَنَّةِ وَالرَّضوانَ في دارِالسَّلامِ وَ جِوارِنَبیِّکَ مُحَمَّدعَلَیهِ وَآلِهِ السَّلام اَللّهُمَّ مَا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بِنا مِن نِعمَة فَمِنک لا اِلهَ اِلاّ اَنت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ستَغفِرُکَ</a:t>
            </a:r>
            <a:r>
              <a:rPr b="1" lang="fa-I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اتوبُ اِلَیک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>Hadi Najar</dc:creator>
  <dc:description/>
  <dc:language>en-US</dc:language>
  <cp:lastModifiedBy>Seyed Mohammad Kazem Motallebi</cp:lastModifiedBy>
  <dcterms:modified xsi:type="dcterms:W3CDTF">2008-02-07T05:42:13Z</dcterms:modified>
  <cp:revision>10</cp:revision>
  <dc:subject/>
  <dc:title>Namaz Maghrib</dc:title>
</cp:coreProperties>
</file>