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0A1-B334-41FA-B90A-D23CB7DF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795-C422-4735-9F4D-246C1A83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E97-6755-4D44-B141-56AFB1DE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FCA-8F75-4367-8609-C2093E02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EA7-B37D-40E2-8D43-792BBE59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B07-CA61-40F2-879F-EA40174D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91D-5605-4F1C-8AE0-A794D40E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BAC-42D3-4AC8-A68D-239D39CE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C25-B987-426B-BFCD-FE5DC811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F05-9B6C-4CD1-8B75-22EEEB78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145-9F9F-4BE6-8173-9861F7DC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B70-C8C9-4531-9E54-B59466F7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9415-2BE9-49F2-B68E-A5D0D4DE7DCA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quran+namaz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81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ظهر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quran+namaz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000"/>
                </a:solidFill>
                <a:latin typeface="Calibri"/>
              </a:rPr>
              <a:t>بِسم الله الرَحمن الرَحیم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F_elham"/>
              </a:rPr>
              <a:t>لا اِلهَ الّا اللهُ الْعَظیمُ الْحَلیمُ لآ اِلهَ اِلّا اللهُ رَبُّ الْعَرْشِ الْکَریمُ اَلْحَمْدُ لِلّهِ رَبِّ الْعالَمینَ اَلّلهُمَّ اِنّی اَسْئَلُکَ موُجِباتِ رَحْمَتِکَ وَعَزآئِمَ مَغْفِرَتِکَ وَالْغَنیمَةَ مِنْ کُلِّ بِرٍّّوَالسَّلامَةَ مِنْ کُلِّ اِثْم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اَلّلهُمَّ لاتَدَعْ لی ذَنْباً اِلّا غَفَرْتَهُ وَلا هَمّاً اِلّا فَرَّجْتَهُ وَلا سُقْماً اِلّا شَفَیْتَهُ وَلا عَیْباً اِلّا سَتَرْتَهُ وَلا رِزْقاً اِلّا بَسَطْتَهُ وَلا خَوْفاً اِلّا </a:t>
            </a: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َنْتَهُ وَلا سُوءً اِلّا صَرَفْتَهُ وَلا حاجَةً هِیَ لَکَ رِضاً وَلِیَ فیها صَلاحٌ اِلّا قَضَیْتَها یآ اَرْحَمَ الرّاحِمینَ </a:t>
            </a:r>
            <a:br>
              <a:rPr sz="4000"/>
            </a:b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ینَ رَبَّ الْعالَمین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/>
  <dc:description/>
  <dc:language>en-US</dc:language>
  <cp:lastModifiedBy>Seyed Mohammad Kazem Motallebi</cp:lastModifiedBy>
  <dcterms:modified xsi:type="dcterms:W3CDTF">2008-02-02T02:09:45Z</dcterms:modified>
  <cp:revision>9</cp:revision>
  <dc:subject/>
  <dc:title>Namaz Zohar</dc:title>
</cp:coreProperties>
</file>