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46F0-E254-41EA-80F0-94EF18F60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6A5C-60FF-48B9-AA62-D02511BCC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BDD8-CDFD-410B-A3A6-13F97D7FA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3589-1BAF-4EB2-A00F-49BFCE41F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F661-3BAA-4756-BBA8-CEEE5E2E9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F0A8-6BC8-4A65-8955-C62B31099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BD6D-9317-4F5D-BF45-DB027132B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54CC-162D-49C8-B7BF-44AA55F2B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C033-FA95-4A68-A732-402E5F7AA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EBD5-5B79-45D4-BA19-51B15B8D7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DECD-0777-4A46-8E22-8441F8EC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6FBF-6A97-4F97-A8F3-D320DCE6F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08D6D-8485-4BEB-AB21-5114D62F6949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quran+namaz.jpg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2960" y="1815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8800" spc="-1" strike="noStrike">
                <a:solidFill>
                  <a:srgbClr val="ffffff"/>
                </a:solidFill>
                <a:latin typeface="Calibri"/>
              </a:rPr>
              <a:t>تعقیب نمازظهر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quran+namaz.jpg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70009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24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fc000"/>
                </a:solidFill>
                <a:latin typeface="Calibri"/>
              </a:rPr>
              <a:t>بِسم الله الرَحمن الرَحیم </a:t>
            </a:r>
            <a:br>
              <a:rPr sz="4000"/>
            </a:br>
            <a:br>
              <a:rPr sz="4000"/>
            </a:br>
            <a:r>
              <a:rPr b="1" lang="ar-SA" sz="4000" spc="-1" strike="noStrike">
                <a:solidFill>
                  <a:srgbClr val="ffffff"/>
                </a:solidFill>
                <a:latin typeface="F_elham"/>
              </a:rPr>
              <a:t>لا اِلهَ الّا اللهُ الْعَظیمُ الْحَلیمُ لآ اِلهَ اِلّا اللهُ رَبُّ الْعَرْشِ الْکَریمُ اَلْحَمْدُ لِلّهِ رَبِّ الْعالَمینَ اَلّلهُمَّ اِنّی اَسْئَلُکَ موُجِباتِ رَحْمَتِکَ وَعَزآئِمَ مَغْفِرَتِکَ وَالْغَنیمَةَ مِنْ کُلِّ بِرٍّّوَالسَّلامَةَ مِنْ کُلِّ اِثْمٍ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quran+namaz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500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ar-SA" sz="4000" spc="-1" strike="noStrike">
                <a:solidFill>
                  <a:srgbClr val="ffffff"/>
                </a:solidFill>
                <a:latin typeface="Calibri"/>
              </a:rPr>
              <a:t>اَلّلهُمَّ لاتَدَعْ لی ذَنْباً اِلّا غَفَرْتَهُ وَلا هَمّاً اِلّا فَرَّجْتَهُ وَلا سُقْماً اِلّا شَفَیْتَهُ وَلا عَیْباً اِلّا سَتَرْتَهُ وَلا رِزْقاً اِلّا بَسَطْتَهُ وَلا خَوْفاً اِلّا </a:t>
            </a:r>
            <a:r>
              <a:rPr b="1" lang="fa-IR" sz="4000" spc="-1" strike="noStrike">
                <a:solidFill>
                  <a:srgbClr val="ffffff"/>
                </a:solidFill>
                <a:latin typeface="Calibri"/>
              </a:rPr>
              <a:t>آ</a:t>
            </a:r>
            <a:r>
              <a:rPr b="1" lang="ar-SA" sz="4000" spc="-1" strike="noStrike">
                <a:solidFill>
                  <a:srgbClr val="ffffff"/>
                </a:solidFill>
                <a:latin typeface="Calibri"/>
              </a:rPr>
              <a:t>مَنْتَهُ وَلا سُوءً اِلّا صَرَفْتَهُ وَلا حاجَةً هِیَ لَکَ رِضاً وَلِیَ فیها صَلاحٌ اِلّا قَضَیْتَها یآ اَرْحَمَ الرّاحِمینَ </a:t>
            </a:r>
            <a:br>
              <a:rPr sz="4000"/>
            </a:br>
            <a:r>
              <a:rPr b="1" lang="fa-IR" sz="4000" spc="-1" strike="noStrike">
                <a:solidFill>
                  <a:srgbClr val="ffffff"/>
                </a:solidFill>
                <a:latin typeface="Calibri"/>
              </a:rPr>
              <a:t>آ</a:t>
            </a:r>
            <a:r>
              <a:rPr b="1" lang="ar-SA" sz="4000" spc="-1" strike="noStrike">
                <a:solidFill>
                  <a:srgbClr val="ffffff"/>
                </a:solidFill>
                <a:latin typeface="Calibri"/>
              </a:rPr>
              <a:t>مینَ رَبَّ الْعالَمین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9T08:55:53Z</dcterms:created>
  <dc:creator/>
  <dc:description/>
  <dc:language>en-US</dc:language>
  <cp:lastModifiedBy>Seyed Mohammad Kazem Motallebi</cp:lastModifiedBy>
  <dcterms:modified xsi:type="dcterms:W3CDTF">2008-02-02T02:09:45Z</dcterms:modified>
  <cp:revision>9</cp:revision>
  <dc:subject/>
  <dc:title>Namaz Zohar</dc:title>
</cp:coreProperties>
</file>