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A1D-4BF0-4D7C-B4EB-459C8E64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098-CBD2-4D73-B391-201B8AD1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063-3D7A-47DC-ACED-6DDED846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8FB-8A93-40C1-BE2C-26DAE2A6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EDD-0579-4170-8BC9-C41AE04E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4BB-1F4A-401B-8CC4-0D07DA9D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D67-9AD4-4040-8C17-05F0426A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C0A-10C3-491E-84ED-E6D0D716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BAE-83C5-4871-A93B-DC4C4E4D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B47-C517-4F75-AC28-54A8D0D5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DBB-45FB-4BB6-8663-031DF18F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AF0-39EF-47EF-B735-1E13EFF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4696-694D-4B44-ACE5-7928F2CD2E34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quran+namaz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ظه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ran+namaz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000"/>
                </a:solidFill>
                <a:latin typeface="Calibri"/>
              </a:rPr>
              <a:t>بِسم الله الرَحمن الرَحیم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F_elham"/>
              </a:rPr>
              <a:t>لا اِلهَ الّا اللهُ الْعَظیمُ الْحَلیمُ لآ اِلهَ اِلّا اللهُ رَبُّ الْعَرْشِ الْکَریمُ اَلْحَمْدُ لِلّهِ رَبِّ الْعالَمینَ اَلّلهُمَّ اِنّی اَسْئَلُکَ موُجِباتِ رَحْمَتِکَ وَعَزآئِمَ مَغْفِرَتِکَ وَالْغَنیمَةَ مِنْ کُلِّ بِرٍّّوَالسَّلامَةَ مِنْ کُلِّ اِثْم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اَلّلهُمَّ لاتَدَعْ لی ذَنْباً اِلّا غَفَرْتَهُ وَلا هَمّاً اِلّا فَرَّجْتَهُ وَلا سُقْماً اِلّا شَفَیْتَهُ وَلا عَیْباً اِلّا سَتَرْتَهُ وَلا رِزْقاً اِلّا بَسَطْتَهُ وَلا خَوْفاً اِلّا </a:t>
            </a: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َنْتَهُ وَلا سُوءً اِلّا صَرَفْتَهُ وَلا حاجَةً هِیَ لَکَ رِضاً وَلِیَ فیها صَلاحٌ اِلّا قَضَیْتَها یآ اَرْحَمَ الرّاحِمینَ </a:t>
            </a:r>
            <a:br>
              <a:rPr sz="4000"/>
            </a:b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ینَ رَبَّ الْعالَمین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/>
  <dc:description/>
  <dc:language>en-US</dc:language>
  <cp:lastModifiedBy>Seyed Mohammad Kazem Motallebi</cp:lastModifiedBy>
  <dcterms:modified xsi:type="dcterms:W3CDTF">2008-02-02T02:09:45Z</dcterms:modified>
  <cp:revision>9</cp:revision>
  <dc:subject/>
  <dc:title>Namaz Zohar</dc:title>
</cp:coreProperties>
</file>