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63E-5235-4544-8C59-BCA00C75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5F9-4878-4F6D-8BCD-6EE11AFA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937-82DD-4C98-85A9-8497C522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2635-D724-4C5E-AE0B-D38584F7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8C2-8857-4085-A36C-2A9446E2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E1C-5D30-4890-9C11-EF82AD44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EA8-E11D-4CD9-8EF1-9F9740B3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59A-D3A1-43A2-B0CB-F7CA0BDB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C13-361D-4307-BBE7-3358CA5C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159-BA24-4AEC-B378-2499A013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3A5-4F70-4937-9AC4-6583F13A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66D-94D7-49B5-8F4D-D65DD535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6D2E-B577-44B1-9F7A-6CE5B3D840DA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مغرب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a-IR" sz="4400" spc="-1" strike="noStrike">
                <a:solidFill>
                  <a:srgbClr val="ffc000"/>
                </a:solidFill>
                <a:latin typeface="Calibri"/>
              </a:rPr>
              <a:t> بِسم الله الرَحمن الرَحیم </a:t>
            </a:r>
            <a:br>
              <a:rPr sz="4400"/>
            </a:b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للّهُمَّ اِنّي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اَسئَلُُکَ موجِباتِ رَحمَتِک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عَزآئِمَ مَغفِرَتِک وَالنَجاةَ مِن النّارِ وَ مِن کلِّ بَلیَّة وَالفَوزَ بِالجَنَّةِ وَالرَّضوانَ في دارِالسَّلامِ وَ جِوارِنَبیِّکَ مُحَمَّدعَلَیهِ وَآلِهِ السَّلام اَللّهُمَّ مَا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بِنا مِن نِعمَة فَمِنک لا اِلهَ اِلاّ اَنت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ستَغفِرُکَ</a:t>
            </a:r>
            <a:r>
              <a:rPr b="1" lang="fa-I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اتوبُ اِلَیک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>Hadi Najar</dc:creator>
  <dc:description/>
  <dc:language>en-US</dc:language>
  <cp:lastModifiedBy>Seyed Mohammad Kazem Motallebi</cp:lastModifiedBy>
  <dcterms:modified xsi:type="dcterms:W3CDTF">2008-02-07T05:42:13Z</dcterms:modified>
  <cp:revision>10</cp:revision>
  <dc:subject/>
  <dc:title>Namaz Maghrib</dc:title>
</cp:coreProperties>
</file>